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3520" cy="26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665748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5267160" y="665748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3A81F2-4777-424B-9031-16F5CC3DF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4AC296-109B-4600-9E8E-9C0FEA32E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3520" cy="2627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.  Yes, due to fatality and estimated damages incurred NRC is to be no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5a – RR Injury and Illness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7 – Hwy Grade Crossing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4 – Rail Equipment Accident/Incident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97 – Initial Rail Equipment Accident/Incid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98 – RR Employee Injury and/or Illness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5a – RR Injury and Illness Summary – Railroad “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7 – Hwy Grade Crossing Report – Railroad “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54 – Rail Equipment Accident/Incident Report – Both Railroad “A” and “B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97 – Initial Rail Equipment Accident/Incident Record – Both Railroad “A” and “B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6180.98 – RR Employee Injury and/or Illness Record – Railroad “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.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Reference 219.201 – (b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C1CB65-9041-4FB6-A9BD-7C1F5159F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3520" cy="2627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ceptions refer to 49 CFR, Page 344 (3) (i) – (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961436-4986-4220-8A41-973A17F60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3520" cy="2627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ceptions refer to 49 CFR, Page 344 (3) (i) – (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16A4-FD61-4EAC-B27C-5669C084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E384-D4D4-402A-8471-02832B2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5D29-42A9-4510-A5D8-1817AC66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A867-B3A1-45FB-BF8E-A7A7E4C1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E48-C2D3-411D-85D0-4225F2A6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54A-2593-4F93-8C5A-B3F8A71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9E6F-A5E6-4F95-85B2-C2A7949B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6DEA-D0C3-470F-9AEA-E020921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783E-24BC-47E7-8EF0-394B3A5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D8A-9C82-4601-A356-38A0B6F5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91E-03F5-4341-A6B3-4D26616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2D05-934C-41E1-8879-B9535DF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9C68-39B9-422F-9D96-664C12C2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46A-979A-4FA6-9482-8C96752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907E-0E9A-4F3D-A532-A7A412B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863-F976-4CB9-95D8-DFCE09E9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3C1-B156-4D22-AB35-EAFC3C50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F32D-6E6F-4382-BBA7-9BF30AE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6823-37F1-43E3-955F-987421D2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0A1C-802A-44E4-B333-FE8CE9EF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0AF9-6D04-45B7-A3D2-4A60623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EA40-FB93-4DA3-B9FB-181D1BC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B6E2-8D64-4320-AF1A-D118CCF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1C5D-C5D0-400B-98CF-D4B64B4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AA6E-BD48-4479-9D59-D2F5C2BDE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3A8-042B-41FB-9EAE-3D30050DBE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EEEF-ED32-4553-A9B5-8C563842F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Presentation to </a:t>
            </a:r>
            <a:br>
              <a:rPr sz="3200"/>
            </a:b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Railroad Accident Reporting Personnel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ining Module VI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Railroad’s Annual Report to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A Form F 6180.56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69840" y="3809880"/>
            <a:ext cx="9144000" cy="11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lf Instruction - Part 225 Training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ed on the FRA Guide for Preparing Accident/Incident Reports and Related Reporting and Recordkeeping Fo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RA Guide Revision of June 1, 2011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8" descr="Logoslicewhite"/>
          <p:cNvPicPr/>
          <p:nvPr/>
        </p:nvPicPr>
        <p:blipFill>
          <a:blip r:embed="rId1"/>
          <a:stretch/>
        </p:blipFill>
        <p:spPr>
          <a:xfrm>
            <a:off x="152280" y="5415120"/>
            <a:ext cx="1067040" cy="107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7543800" y="5415120"/>
            <a:ext cx="1523880" cy="1023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406520" y="5421240"/>
            <a:ext cx="5985000" cy="13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ederal Railroad Administration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st Revision:  August 1, 20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112840" y="522144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832C-74A2-41D9-A40F-D103ADC17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Garamond"/>
              </a:rPr>
              <a:t>Training Module Annual Repo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04920" y="1066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nnual Reporting Obligati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666880" y="1897200"/>
            <a:ext cx="3886200" cy="4579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9AE6-889D-4F6F-BE35-E6CF384D0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Annual Reporting Obli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nual reporting is required by a railroad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ilroads must submit to FRA an annual report of employee hours worked and casualties by State on Form FRA F 6180.56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report must be included with the railroad’s monthly submission for December. See 49 CFR 225.21(d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C73-8723-413C-A13A-8CBF0BFAAB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Garamond"/>
              </a:rPr>
              <a:t>Annual Reporting Obli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318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PORTING FO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m FRA F 6180.56 - Annual Railroad Report of Employee Hours and Casualties, by S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1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QUIREMEN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summary of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ll hours worked by railroad employees and employee casualti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uring the report year must be made on Form FRA F 6180.56, and be included with the December sub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2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9631-280A-491F-A8AE-52462F76A9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Garamond"/>
              </a:rPr>
              <a:t>Annual Reporting Oblig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2960" y="380520"/>
            <a:ext cx="9219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ents about Form FRA F 6180.56, “Annual Report of Employee Hours and Casualties, by State”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ORTANT –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m of the hours worked shown on this form must equal the total number of hours reported on the monthly repor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Forms FRA F 6180.55)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not, then updates to the monthly reports must be mad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ORTANT – The hours work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ll employe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the railroad, regardless of occupation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re to be included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  Non-work time, such as sick leave, is to be omitted even thought it is paid.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o not include hours of volunteers, the employees of railroad contractors, or other classifications of person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4A09-4B39-4BA9-8BFF-9EFC243B08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Garamond"/>
              </a:rPr>
              <a:t>Annual Reporting Oblig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2203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ents about Form FRA F 6180.56, “Annual Report of Employee Hours and Casualties, by State”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ORTANT –  For complete instructions for preparing Form FRA F 6180.56, see Chapter 11 of the current version of the FRA Gui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8D7-2E03-4DA1-A132-AB0ACC2F7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Garamond"/>
              </a:rPr>
              <a:t>Annual Reporting Oblig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ents about Form FRA F 6180.56, “Annual Report of Employee Hours and Casualties, by State”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ORTANT –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total casualties reported for the year on this form must not differ from the total casualties for the year as reported on Form FRA F 6180.55a for Worker on Duty-Railroad Employees (Class A).  Do not include casualties to volunteers, the employees of railroad contractors, or other classifications of pers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A502-29DE-43D7-A29B-6E22FA7A7A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RE THERE ANY QUESTION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lease contact Bob Portsche at robert.portsche@dot.gov, or Michael Wissman at michael.wissman@dot.gov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Summary of Audit Procedures</a:t>
            </a:r>
            <a:br>
              <a:rPr sz="3200"/>
            </a:br>
            <a:r>
              <a:rPr b="1" lang="en-US" sz="3200" spc="-1" strike="noStrike">
                <a:solidFill>
                  <a:srgbClr val="ffc000"/>
                </a:solidFill>
                <a:latin typeface="Garamond"/>
              </a:rPr>
              <a:t>Railroad’s Internal Annual Report to FR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848040" y="2971800"/>
            <a:ext cx="14479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15:11:29Z</dcterms:created>
  <dc:creator>Karen Hosch</dc:creator>
  <dc:description/>
  <dc:language>en-US</dc:language>
  <cp:lastModifiedBy>Senya Waas</cp:lastModifiedBy>
  <cp:lastPrinted>2015-07-23T12:59:33Z</cp:lastPrinted>
  <dcterms:modified xsi:type="dcterms:W3CDTF">2017-11-16T14:53:50Z</dcterms:modified>
  <cp:revision>737</cp:revision>
  <dc:subject/>
  <dc:title>WELCOME  TO  FRA’s REGIONAL SHORT LINE CONFERENCE</dc:title>
</cp:coreProperties>
</file>