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8</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DB8F0-E578-4F68-A21A-459A4180F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8</a:t>
            </a:r>
            <a:endParaRPr b="0" lang="en-US" sz="1200" spc="-1" strike="noStrike">
              <a:solidFill>
                <a:srgbClr val="000000"/>
              </a:solidFill>
              <a:latin typeface="Times New Roman"/>
            </a:endParaRPr>
          </a:p>
        </p:txBody>
      </p:sp>
      <p:sp>
        <p:nvSpPr>
          <p:cNvPr id="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25754-061C-414B-B1B2-65C0A78AE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8</a:t>
            </a:r>
            <a:endParaRPr b="0" lang="en-US" sz="1200" spc="-1" strike="noStrike">
              <a:solidFill>
                <a:srgbClr val="000000"/>
              </a:solidFill>
              <a:latin typeface="Times New Roman"/>
            </a:endParaRPr>
          </a:p>
        </p:txBody>
      </p:sp>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9F3F-ED7D-48A7-9B7F-36401F720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will address the movement of freight cars that contain Safety Appliance or Power Brake defects.  The term “Safety Appliances” is often use interchangeably with Power Brakes.  That’s because the Safety Appliance Act required the installation of power brakes as well as safety appliances on railroad freight cars, locomo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the Act also required other things like automatic couplers and set coupler height limits or rolling equipment. The provisions for the movement of defective equipment (Safety Appliance or Power Brake is the same.  For example, The movement provision that will be discussed in the following slides applies to both Safety Appliances and Power Brake defect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8</a:t>
            </a:r>
            <a:endParaRPr b="0" lang="en-US" sz="1200" spc="-1" strike="noStrike">
              <a:solidFill>
                <a:srgbClr val="000000"/>
              </a:solidFill>
              <a:latin typeface="Times New Roman"/>
            </a:endParaRPr>
          </a:p>
        </p:txBody>
      </p:sp>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482A-3239-4FF9-B3AE-50B03B4F1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fety Appliance Law requires Safety Appliances not in compliance with the regulations to be repaired when found to be defective.  However, the Law does allow movement of defective Safety Appliances for repair if  repairs cannot be made at the location where they are found defective in a safe and reasonable manner.  Prevailing case law suggests that neither discovery or convenience mitigates the railroads responsibility for compliance with the Safety Appliance Regulations at all times. The key here is whether or not repairs can be made at the location found defective in a safe and reasonable manner.  If repairs are routinely made by a wheel truck at a particular location then FRA will consider that location a repair point.  Conversely, FRA does not expect railroads to comply with the Safety Appliance Law at the expense of exposing its employees to unnecessary danger or risk of personal injury.  Therefore, inspectors are reminded to consider these facts and weigh the circumstances carefully when determining “safe and reason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8</a:t>
            </a:r>
            <a:endParaRPr b="0" lang="en-US" sz="1200" spc="-1" strike="noStrike">
              <a:solidFill>
                <a:srgbClr val="000000"/>
              </a:solidFill>
              <a:latin typeface="Times New Roman"/>
            </a:endParaRPr>
          </a:p>
        </p:txBody>
      </p:sp>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995C-011B-423C-B18D-CAB13F626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ly the railroad must have knowledge of the defect before it can haul a car under 20303.  Even though FRA doesn’t have a tagging requirement on the car, burden of proof is on the railroad to demonstrate that car is being hauled under 20303</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6CC6A-9B71-4D02-AE34-59678C5FF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A378F-4FD3-4D51-9974-8A2F49D8C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6F2D7-8DED-4BF4-90F9-8B6741233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B0579-6791-4294-A965-CE723E689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5C7B6-E574-41D8-94EE-C3196618E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3E571-047D-440A-AF99-AF1A587BA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D723B-8399-4D03-A543-B2E3F5C40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83EF6-A739-46EA-B129-9551F963F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94B02-0455-45FC-BE01-5908D5907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09A6C-1A3B-4C22-A251-19981C30A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1F1AF-D4CC-444B-9F02-FD96D79FE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F0F83-236F-4103-A64E-94DC63669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8</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15931-CD1F-4908-ABF5-AF6F924BF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fety Appliance Standards</a:t>
            </a:r>
            <a:br>
              <a:rPr sz="4400"/>
            </a:br>
            <a:r>
              <a:rPr b="0" lang="en-US" sz="4400" spc="-1" strike="noStrike">
                <a:solidFill>
                  <a:srgbClr val="000000"/>
                </a:solidFill>
                <a:latin typeface="Times New Roman"/>
              </a:rPr>
              <a:t>Part 231</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ment of Defective Freight Ca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 8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8</a:t>
            </a:r>
            <a:endParaRPr b="0" lang="en-US" sz="1400" spc="-1" strike="noStrike">
              <a:solidFill>
                <a:srgbClr val="000000"/>
              </a:solidFill>
              <a:latin typeface="Times New Roman"/>
            </a:endParaRPr>
          </a:p>
        </p:txBody>
      </p:sp>
      <p:sp>
        <p:nvSpPr>
          <p:cNvPr id="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3F1E-F5F6-429B-8038-2258BBBEC9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 Objective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conditions associated with the movement of defective locomotives or cars for repair with safety appliance def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e deviations from the standa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8</a:t>
            </a:r>
            <a:endParaRPr b="0" lang="en-US" sz="1400" spc="-1" strike="noStrike">
              <a:solidFill>
                <a:srgbClr val="000000"/>
              </a:solidFill>
              <a:latin typeface="Times New Roman"/>
            </a:endParaRPr>
          </a:p>
        </p:txBody>
      </p:sp>
      <p:sp>
        <p:nvSpPr>
          <p:cNvPr id="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A9BE-798D-4762-8854-FA2DF8FCA0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s</a:t>
            </a:r>
            <a:br>
              <a:rPr sz="4400"/>
            </a:br>
            <a:r>
              <a:rPr b="0" lang="en-US" sz="4400" spc="-1" strike="noStrike">
                <a:solidFill>
                  <a:srgbClr val="000000"/>
                </a:solidFill>
                <a:latin typeface="Times New Roman"/>
              </a:rPr>
              <a:t>Classification of Component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fety Appliance  - Handhold, ladder, dome ladder, dome platform, sill step, safety railing, handbrake, handbrake components, running board, etc.</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Brake – Brake valves, brake valve components, pipe bracket, brake reservoir, brake cylinder, piston travel, brake beam, brake shoe, brake shoe key, brake lever, brake rod, brake rod safety hanger, brake pin, et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8</a:t>
            </a:r>
            <a:endParaRPr b="0" lang="en-US" sz="1400" spc="-1" strike="noStrike">
              <a:solidFill>
                <a:srgbClr val="000000"/>
              </a:solidFill>
              <a:latin typeface="Times New Roman"/>
            </a:endParaRPr>
          </a:p>
        </p:txBody>
      </p:sp>
      <p:sp>
        <p:nvSpPr>
          <p:cNvPr id="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1A9B4-855F-4966-8943-94636F3DB3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vement for Repair</a:t>
            </a:r>
            <a:br>
              <a:rPr sz="4400"/>
            </a:br>
            <a:r>
              <a:rPr b="0" lang="en-US" sz="4400" spc="-1" strike="noStrike">
                <a:solidFill>
                  <a:srgbClr val="000000"/>
                </a:solidFill>
                <a:latin typeface="Times New Roman"/>
              </a:rPr>
              <a:t>Locomotives &amp; Freight Car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reight car defective under CFR Part 231 or 232 may move to the nearest location for repair after meeting the conditions stipulated under 49 USC 20303.</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movement provision is not to be confused with the provisions under Part 229.9 or 215.9.</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9 USC 20303 is very restrictive and does not allow for the movement of defective equipment for the purposes of convenience or at the arbitrary discretion of the railro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8</a:t>
            </a:r>
            <a:endParaRPr b="0" lang="en-US" sz="1400" spc="-1" strike="noStrike">
              <a:solidFill>
                <a:srgbClr val="000000"/>
              </a:solidFill>
              <a:latin typeface="Times New Roman"/>
            </a:endParaRPr>
          </a:p>
        </p:txBody>
      </p:sp>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AEA25-F1C1-42FD-85A7-D678C1536E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ditions for Movement</a:t>
            </a:r>
            <a:endParaRPr b="0" lang="en-US" sz="4400" spc="-1" strike="noStrike">
              <a:solidFill>
                <a:srgbClr val="000000"/>
              </a:solidFill>
              <a:latin typeface="Times New Roman"/>
            </a:endParaRPr>
          </a:p>
        </p:txBody>
      </p:sp>
      <p:sp>
        <p:nvSpPr>
          <p:cNvPr id="65" name="PlaceHolder 2"/>
          <p:cNvSpPr>
            <a:spLocks noGrp="1"/>
          </p:cNvSpPr>
          <p:nvPr>
            <p:ph/>
          </p:nvPr>
        </p:nvSpPr>
        <p:spPr>
          <a:xfrm>
            <a:off x="380880" y="1600200"/>
            <a:ext cx="8305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airs cannot be made where the defect(s) are first discovered in a safe and reasonable mann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ment is permitted only when hauled for repair to the nearest repair poi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 may not be loaded or unloaded first, unless unloading is consistent with effecting safe repai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 of a mobile repair truck could be construed as the repair point provided that repairs can be made without exposing railroad employees to unnecessary personal inju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d Order or Home Shop Tag not necessary under current regulation, but Burden of Proof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8</a:t>
            </a:r>
            <a:endParaRPr b="0" lang="en-US" sz="1400" spc="-1" strike="noStrike">
              <a:solidFill>
                <a:srgbClr val="000000"/>
              </a:solidFill>
              <a:latin typeface="Times New Roman"/>
            </a:endParaRPr>
          </a:p>
        </p:txBody>
      </p:sp>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5A05-EF17-4A89-9BEC-2D89F15536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change</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of freight car defective under Part 231or 232 allowed if;</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necting railroad is in agreement.</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necting railroad hauls car for repair only.</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necting railroad repair point is no further than delivering railroad repair poi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8</a:t>
            </a:r>
            <a:endParaRPr b="0" lang="en-US" sz="1400" spc="-1" strike="noStrike">
              <a:solidFill>
                <a:srgbClr val="000000"/>
              </a:solidFill>
              <a:latin typeface="Times New Roman"/>
            </a:endParaRPr>
          </a:p>
        </p:txBody>
      </p:sp>
      <p:sp>
        <p:nvSpPr>
          <p:cNvPr id="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05D9-B265-45AF-96A6-2A75C17CE5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Considerations</a:t>
            </a:r>
            <a:endParaRPr b="0" lang="en-US" sz="4400" spc="-1" strike="noStrike">
              <a:solidFill>
                <a:srgbClr val="000000"/>
              </a:solidFill>
              <a:latin typeface="Times New Roman"/>
            </a:endParaRPr>
          </a:p>
        </p:txBody>
      </p:sp>
      <p:sp>
        <p:nvSpPr>
          <p:cNvPr id="73" name="PlaceHolder 2"/>
          <p:cNvSpPr>
            <a:spLocks noGrp="1"/>
          </p:cNvSpPr>
          <p:nvPr>
            <p:ph/>
          </p:nvPr>
        </p:nvSpPr>
        <p:spPr>
          <a:xfrm>
            <a:off x="304560" y="1523880"/>
            <a:ext cx="84582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ledge of defect.</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nience, economic or practical arguments are not legitimate defenses for moving a defective car for repai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lroad not relieved of its liability should injury or death occur to a railroad employee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fe and reasonabl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 does not expect railroads to comply with the Safety Appliance Law at the expense of exposing its employees to unnecessary danger or risk of personal injury.</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8</a:t>
            </a:r>
            <a:endParaRPr b="0" lang="en-US" sz="1400" spc="-1" strike="noStrike">
              <a:solidFill>
                <a:srgbClr val="000000"/>
              </a:solidFill>
              <a:latin typeface="Times New Roman"/>
            </a:endParaRPr>
          </a:p>
        </p:txBody>
      </p:sp>
      <p:sp>
        <p:nvSpPr>
          <p:cNvPr id="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7BD69-4A5F-4435-B1A9-EFA613F1B4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Module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4T15:09:10Z</dcterms:created>
  <dc:creator>Robert J. Castiglione</dc:creator>
  <dc:description/>
  <dc:language>en-US</dc:language>
  <cp:lastModifiedBy>Castiglione, Rob (FRA)</cp:lastModifiedBy>
  <dcterms:modified xsi:type="dcterms:W3CDTF">2017-04-18T20:02:11Z</dcterms:modified>
  <cp:revision>16</cp:revision>
  <dc:subject/>
  <dc:title>Safety Appliance Standards</dc:title>
</cp:coreProperties>
</file>