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A95D-EC16-4255-B172-48DB3BDF7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 to brake test matrix</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 to single car test matrix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matri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 to brake test matrix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I is essentially a initial terminal brake tes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emergency control device place train in emergen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2845-B3CD-4540-ADC0-798EB10E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2DC1-9877-4000-B992-E457CB128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0390C-3CE1-4EBF-8755-D6B90F383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5AC04-6913-4A3C-96B9-E62C228F4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9A92E-81E7-40A1-9FC4-54CF26FB9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1496-7E38-4FD3-8BB4-FD891F50F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A574C-30F6-445E-AFDF-07B993E3B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F8233-F714-458C-B196-1FA11FCF4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59747-43D6-46F8-BD20-5CF5EB5AA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AD941-13AF-4F96-82B3-05E59E1B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7737B-F7FB-4E2E-92D8-CD17DEDE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C002-4784-4993-9D45-554B304AD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99028-E0C8-4384-B5DF-A70A130E9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B4593-7414-4EC3-98A6-B55FE089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25099-A486-4743-99E9-CD0D269BD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57CA7-EB14-47FA-9BEF-0619EB516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055B9-9F34-46F0-9104-8C94A8047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5BA6-4C4C-4D5F-A214-CF8FC58E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06FA-B2E9-47A1-AF94-340A59ED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67271-4183-4F60-8434-B3C0E243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C762-A09A-496D-9F50-E389444C8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1FA1-63D9-45F0-946E-A205513E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8773-3190-4070-8065-18ED85B6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4D9D-B816-4766-AF39-809CF0FFA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1DF5-F450-4B6C-9864-BBCCDD678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C97C-46F2-4440-ACD1-077090B82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assenger Equipment</a:t>
            </a:r>
            <a:br>
              <a:rPr sz="4400"/>
            </a:br>
            <a:r>
              <a:rPr b="0" lang="en-US" sz="4400" spc="-1" strike="noStrike">
                <a:solidFill>
                  <a:srgbClr val="221304"/>
                </a:solidFill>
                <a:latin typeface="Times New Roman"/>
              </a:rPr>
              <a:t> Safety Standard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400" y="3885840"/>
            <a:ext cx="683244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Brake Test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5</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 Brake Test</a:t>
            </a:r>
            <a:br>
              <a:rPr sz="4400"/>
            </a:br>
            <a:r>
              <a:rPr b="0" lang="en-US" sz="4400" spc="-1" strike="noStrike">
                <a:solidFill>
                  <a:srgbClr val="221304"/>
                </a:solidFill>
                <a:latin typeface="Times New Roman"/>
              </a:rPr>
              <a:t>Records</a:t>
            </a:r>
            <a:endParaRPr b="0" lang="en-US" sz="4400" spc="-1" strike="noStrike">
              <a:solidFill>
                <a:srgbClr val="221304"/>
              </a:solidFill>
              <a:latin typeface="Times New Roman"/>
            </a:endParaRPr>
          </a:p>
        </p:txBody>
      </p:sp>
      <p:sp>
        <p:nvSpPr>
          <p:cNvPr id="1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ritten or electronic record shall be maintained of each Class I brake test performed and be provided to FRA upon reque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cord shall be maintained at the place where the inspection is conducted or at one central location and shall be retained for at least 92 day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ord must contain the following inform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e and time that the Class I brake test was perform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tion where the test was perform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ntification number of the controlling locomotive of the tra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number of cars inspected during the test, a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ature or electronic identification of the inspector.</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2FE9CB6B-38D6-44C4-BE85-BA11C8285107}" type="slidenum">
              <a:t>10</a:t>
            </a:fld>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A Brake Test - 238.315 </a:t>
            </a:r>
            <a:br>
              <a:rPr sz="4400"/>
            </a:br>
            <a:r>
              <a:rPr b="0" lang="en-US" sz="4400" spc="-1" strike="noStrike">
                <a:solidFill>
                  <a:srgbClr val="221304"/>
                </a:solidFill>
                <a:latin typeface="Times New Roman"/>
              </a:rPr>
              <a:t>When?</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to the first morning departure of each commuter or short-distance intercity passenger train unless a Class I brake test was performed in the previous 12 hours and the train has not been used since the performance of the Class I brake test and the train has not been off a source of compressed air for more than four hours since the Class I brake test was perform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ter or short-distance intercity passenger trains providing continuous late night service</a:t>
            </a:r>
            <a:r>
              <a:rPr b="1" lang="en-US" sz="2000" spc="-1" strike="noStrike">
                <a:solidFill>
                  <a:srgbClr val="000000"/>
                </a:solidFill>
                <a:latin typeface="Times New Roman"/>
              </a:rPr>
              <a:t> </a:t>
            </a:r>
            <a:r>
              <a:rPr b="0" lang="en-US" sz="2000" spc="-1" strike="noStrike">
                <a:solidFill>
                  <a:srgbClr val="000000"/>
                </a:solidFill>
                <a:latin typeface="Times New Roman"/>
              </a:rPr>
              <a:t>that began prior to midnight may forgo an additional brake test.  However, trains in this type service shall receive Class I or Class IA brake test before starting a new daily operating cycl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lass IA brake test is performed at the start of the new daily operating cycle, the train must receive a Class I brake test at some point during the current calendar day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B3372800-1CA4-441C-AFCA-082C8A0C7D27}" type="slidenum">
              <a:t>11</a:t>
            </a:fld>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A Brake Test</a:t>
            </a:r>
            <a:br>
              <a:rPr sz="4400"/>
            </a:br>
            <a:r>
              <a:rPr b="0" lang="en-US" sz="4400" spc="-1" strike="noStrike">
                <a:solidFill>
                  <a:srgbClr val="221304"/>
                </a:solidFill>
                <a:latin typeface="Times New Roman"/>
              </a:rPr>
              <a:t>Who &amp; How</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A brake test must be performed by a QP or QM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A brake test shall be performed at the air pressure at which the train will be opera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ess the car or vehicle is moving under 238.15 (b),  100 percent operative brakes are required on passenger trains receiving a Class IA brake te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brake must be observed/inspected to verify application and release if the railroad determines that the procedure is saf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safe, brake indicators may be used to determine the set and release on cars so equipped, but observation must be made by walking the trai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E5BFBE13-9D17-49CC-B426-8BAF80E4F148}" type="slidenum">
              <a:t>12</a:t>
            </a:fld>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A Brake Test</a:t>
            </a:r>
            <a:br>
              <a:rPr sz="4400"/>
            </a:br>
            <a:r>
              <a:rPr b="0" lang="en-US" sz="4400" spc="-1" strike="noStrike">
                <a:solidFill>
                  <a:srgbClr val="221304"/>
                </a:solidFill>
                <a:latin typeface="Times New Roman"/>
              </a:rPr>
              <a:t>How?</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pipe leakage does not exceed 5 pounds per square inch per minute if brake pipe leakage will affect service perform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rake sets and releases by inspecting in the manner previously describe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MU equipment, the emergency brake application and the deadman pedal or other emergency control devices function as intende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ngle cock and cutout cock is properly s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642DBC6A-434C-4022-8C9F-9662799458A9}"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A Brake Test</a:t>
            </a:r>
            <a:br>
              <a:rPr sz="4400"/>
            </a:br>
            <a:r>
              <a:rPr b="0" lang="en-US" sz="4400" spc="-1" strike="noStrike">
                <a:solidFill>
                  <a:srgbClr val="221304"/>
                </a:solidFill>
                <a:latin typeface="Times New Roman"/>
              </a:rPr>
              <a:t>How? - Continued</a:t>
            </a:r>
            <a:endParaRPr b="0" lang="en-US" sz="4400" spc="-1" strike="noStrike">
              <a:solidFill>
                <a:srgbClr val="221304"/>
              </a:solidFill>
              <a:latin typeface="Times New Roman"/>
            </a:endParaRPr>
          </a:p>
        </p:txBody>
      </p:sp>
      <p:sp>
        <p:nvSpPr>
          <p:cNvPr id="12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cation of brake pipe pressure changes at the rear of the train is verified, which may be accomplished by observation of an application and release of the brakes on the last car in the train, an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signal system or two-way radio tested for proper op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B37F5137-9A6F-485B-92C3-E00F279A28CD}" type="slidenum">
              <a:t>14</a:t>
            </a:fld>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I Brake Test – 238.317</a:t>
            </a:r>
            <a:br>
              <a:rPr sz="4400"/>
            </a:br>
            <a:r>
              <a:rPr b="0" lang="en-US" sz="4400" spc="-1" strike="noStrike">
                <a:solidFill>
                  <a:srgbClr val="221304"/>
                </a:solidFill>
                <a:latin typeface="Times New Roman"/>
              </a:rPr>
              <a:t>When?</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ssenger trains whenever the control stand used to control the train is changed prior to the train's departure from the terminal complex with passenger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the first mornings departure of each commuter or short-distance intercity passenger train</a:t>
            </a:r>
            <a:r>
              <a:rPr b="1" lang="en-US" sz="2400" spc="-1" strike="noStrike">
                <a:solidFill>
                  <a:srgbClr val="000000"/>
                </a:solidFill>
                <a:latin typeface="Times New Roman"/>
              </a:rPr>
              <a:t> </a:t>
            </a:r>
            <a:r>
              <a:rPr b="0" lang="en-US" sz="2400" spc="-1" strike="noStrike">
                <a:solidFill>
                  <a:srgbClr val="000000"/>
                </a:solidFill>
                <a:latin typeface="Times New Roman"/>
              </a:rPr>
              <a:t>where the Class I brake test remains vali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s that have received a Class I brake test the previous calendar day, have not been off a source of compressed air for more then four hours and are added to a trai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s or equipment are removed from a trai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or first takes charge of train except in cases of face to face relief</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358CC6E9-F684-4CD9-816E-CDF700059A5E}" type="slidenum">
              <a:t>15</a:t>
            </a:fld>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I Brake Test</a:t>
            </a:r>
            <a:br>
              <a:rPr sz="4400"/>
            </a:br>
            <a:r>
              <a:rPr b="0" lang="en-US" sz="4400" spc="-1" strike="noStrike">
                <a:solidFill>
                  <a:srgbClr val="221304"/>
                </a:solidFill>
                <a:latin typeface="Times New Roman"/>
              </a:rPr>
              <a:t>Who &amp; How</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IA brake test must be performed by a QP or QM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 as provided in 238.15, a railroad shall not use or haul a passenger train in passenger service from a terminal or yard where a Class II brake test has been performed, or was required by this part to have been performed, with any of the brakes cut-out, inoperative, or defec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48D3C68D-2C41-434D-A995-04301BAD3A7D}" type="slidenum">
              <a:t>16</a:t>
            </a:fld>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I Brake Test</a:t>
            </a:r>
            <a:br>
              <a:rPr sz="4400"/>
            </a:br>
            <a:r>
              <a:rPr b="0" lang="en-US" sz="4400" spc="-1" strike="noStrike">
                <a:solidFill>
                  <a:srgbClr val="221304"/>
                </a:solidFill>
                <a:latin typeface="Times New Roman"/>
              </a:rPr>
              <a:t>How? </a:t>
            </a:r>
            <a:endParaRPr b="0" lang="en-US" sz="4400" spc="-1" strike="noStrike">
              <a:solidFill>
                <a:srgbClr val="221304"/>
              </a:solidFill>
              <a:latin typeface="Times New Roman"/>
            </a:endParaRPr>
          </a:p>
        </p:txBody>
      </p:sp>
      <p:sp>
        <p:nvSpPr>
          <p:cNvPr id="13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kes apply and release at the rear of the train in response to signal from engineer’s brake valve or controller from leading or controlling unit, or a gauge or similar device at the rear of train or cab or the rear unit indicating brake pipe pressure chan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U equipment, the emergency brake application and deadman pedal or other emergency control devices function as intend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signal system or two-way radio tested for proper oper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98A18F4A-A050-487E-82E3-6209802ED2E5}" type="slidenum">
              <a:t>17</a:t>
            </a:fld>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nning Brake Test – 238.319</a:t>
            </a:r>
            <a:br>
              <a:rPr sz="4400"/>
            </a:br>
            <a:r>
              <a:rPr b="0" lang="en-US" sz="4400" spc="-1" strike="noStrike">
                <a:solidFill>
                  <a:srgbClr val="221304"/>
                </a:solidFill>
                <a:latin typeface="Times New Roman"/>
              </a:rPr>
              <a:t>When</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ll passenger train departures a soon as conditions safely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ssenger trains whenever the control stand used to control the train is changed within a terminal complex and train is not in passenger servi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992615B7-C660-4B92-ACDC-15C97E80149A}" type="slidenum">
              <a:t>18</a:t>
            </a:fld>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unning Brake Test</a:t>
            </a:r>
            <a:br>
              <a:rPr sz="4400"/>
            </a:br>
            <a:r>
              <a:rPr b="0" lang="en-US" sz="4400" spc="-1" strike="noStrike">
                <a:solidFill>
                  <a:srgbClr val="221304"/>
                </a:solidFill>
                <a:latin typeface="Times New Roman"/>
              </a:rPr>
              <a:t>How?</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nning brake test shall be conducted in accordance with the railroad's established operating rules, and shall be made by applying brakes in a manner that allows the engineer to ascertain whether the brakes are operating proper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engineer determines that the brakes are not operating properly, the engineer shall stop the train and follow the procedures provided in 238.1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C53E60E1-A1E4-4A48-9A44-0A2D8C8719BD}" type="slidenum">
              <a:t>19</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odule Objectives</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wheel defects that would trigger a Single Car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e Class I, Class IA and Class II brake test requir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ADABCFE5-7759-4D71-BFF8-74EDDB8F707F}" type="slidenum">
              <a:t>2</a:t>
            </a:fld>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nd of Module 5</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brea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BE7958DB-3B84-4C8F-AA71-6C9FD99E39A6}" type="slidenum">
              <a:t>20</a:t>
            </a:fld>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ingle Car Test 238.311</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s requiring a single car test or any other test (e.g., brake reservoir, brake cylinder, etc.), may be moved in passenger service to next forward location where test can be made provided the following conditions are met;</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movement, car must be visually observed on both sides to determine that the brakes apply and release</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is appropriately tagged on both sides </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test is performed as part of or prior to the car’s next calendar day mechanical inspec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31271998-53B1-4338-9418-747BC664C61D}" type="slidenum">
              <a:t>3</a:t>
            </a:fld>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ingle Car Test Trigger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ware of the events that trigger a Single Car Test </a:t>
            </a:r>
            <a:r>
              <a:rPr b="0" i="1" lang="en-US" sz="3200" spc="-1" strike="noStrike">
                <a:solidFill>
                  <a:srgbClr val="000000"/>
                </a:solidFill>
                <a:latin typeface="Times New Roman"/>
              </a:rPr>
              <a:t>(see matrix)</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ware that there are exceptions provided the railroad does its part to prove that certain wheel defects were not air brake system relate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5D3C4B66-78C8-4216-8843-C65E7F4B58C9}"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Class I Brake Test - 238.313</a:t>
            </a:r>
            <a:br>
              <a:rPr sz="3200"/>
            </a:br>
            <a:r>
              <a:rPr b="0" lang="en-US" sz="3200" spc="-1" strike="noStrike">
                <a:solidFill>
                  <a:srgbClr val="221304"/>
                </a:solidFill>
                <a:latin typeface="Times New Roman"/>
              </a:rPr>
              <a:t>Commuter and Short &amp; Long Distance Intercity</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alendar da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distance intercity passenger trains at departure or originating terminal each calendar day or 1500 miles of continuous service whichever occurs fir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ng distance, intercity passenger train that misses a scheduled calendar day Class I brake test due to a delay en route may proceed to the point where the Class I brake test was scheduled to be performed. A Class I brake test shall be completed at that point prior to placing the train back in servi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consideration given to late night commuter trains (</a:t>
            </a:r>
            <a:r>
              <a:rPr b="0" i="1" lang="en-US" sz="2400" spc="-1" strike="noStrike">
                <a:solidFill>
                  <a:srgbClr val="000000"/>
                </a:solidFill>
                <a:latin typeface="Times New Roman"/>
              </a:rPr>
              <a:t>see matri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AC02E23A-5E0B-4AB6-8D1C-4C18A868C74F}" type="slidenum">
              <a:t>5</a:t>
            </a:fld>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 Brake Test</a:t>
            </a:r>
            <a:br>
              <a:rPr sz="4400"/>
            </a:br>
            <a:r>
              <a:rPr b="0" lang="en-US" sz="4400" spc="-1" strike="noStrike">
                <a:solidFill>
                  <a:srgbClr val="221304"/>
                </a:solidFill>
                <a:latin typeface="Times New Roman"/>
              </a:rPr>
              <a:t>Adding Ca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assenger car or unpowered vehicle added to a passenger train shall receive a Class I or Class 1A brake test unless written notice is provided to train crew that a Class I brake test was performed on the car within the previous calendar day and the car has not been off a source of compressed air for more than four hours prior to being added to the t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ten notice shall contain the date, time and location of the last Class 1 brake te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483AB840-3A89-4697-98EB-6C5DD0143212}" type="slidenum">
              <a:t>6</a:t>
            </a:fld>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 Brake Test</a:t>
            </a:r>
            <a:br>
              <a:rPr sz="4400"/>
            </a:br>
            <a:r>
              <a:rPr b="0" lang="en-US" sz="4400" spc="-1" strike="noStrike">
                <a:solidFill>
                  <a:srgbClr val="221304"/>
                </a:solidFill>
                <a:latin typeface="Times New Roman"/>
              </a:rPr>
              <a:t>Who &amp; How?</a:t>
            </a:r>
            <a:endParaRPr b="0" lang="en-US" sz="44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must be performed by a QM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may be performed either separately or in conjunction with the exterior calendar day mechanical insp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shall be performed at the air pressure at which the train will be operated, but not less than 90 ps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ess the car or vehicle is moving under 238.15(b), 100 percent operative brakes are required on passenger trains receiving a Class I brake te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kes must be observed/inspected on both sides of car to verify application and rele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ction brakes must apply and remain applied until a release of the brakes has been initiat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16924BE7-E49F-46E4-9A15-30DD69A9768C}" type="slidenum">
              <a:t>7</a:t>
            </a:fld>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 Brake Test</a:t>
            </a:r>
            <a:br>
              <a:rPr sz="4400"/>
            </a:br>
            <a:r>
              <a:rPr b="0" lang="en-US" sz="4400" spc="-1" strike="noStrike">
                <a:solidFill>
                  <a:srgbClr val="221304"/>
                </a:solidFill>
                <a:latin typeface="Times New Roman"/>
              </a:rPr>
              <a:t>How?</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heck;</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shoes or pads aligned correctly, proper thickness and firmly seated firmly against the wheel or dis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ton travel or actuator (within prescribed limit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signal system or two-way radio tested for proper oper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s brake valve or controller for proper oper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pipe leakage does not exceed 5 psi per minute if brake pipe leakage will affect service performanc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y control devices (e.g. deadman pedal) function as intended,</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414968B8-E672-4092-8C4D-0EA6B899A3FB}" type="slidenum">
              <a:t>8</a:t>
            </a:fld>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 I Brake Test</a:t>
            </a:r>
            <a:br>
              <a:rPr sz="4400"/>
            </a:br>
            <a:r>
              <a:rPr b="0" lang="en-US" sz="4400" spc="-1" strike="noStrike">
                <a:solidFill>
                  <a:srgbClr val="221304"/>
                </a:solidFill>
                <a:latin typeface="Times New Roman"/>
              </a:rPr>
              <a:t>How? - Continued</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le and cut-out cocks properly position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rigging does not bind or foul,</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pneumatic brakes function as intended verified by walking each car,</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disks are free from cracks that exceed manufacturers specification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indicators if so equipped operate as intende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pipe pressure changes are verified at the rear of the trai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5</a:t>
            </a:r>
          </a:p>
        </p:txBody>
      </p:sp>
      <p:sp>
        <p:nvSpPr>
          <p:cNvPr id="5" name="PlaceHolder 4"/>
          <p:cNvSpPr>
            <a:spLocks noGrp="1"/>
          </p:cNvSpPr>
          <p:nvPr>
            <p:ph type="sldNum" idx="3"/>
          </p:nvPr>
        </p:nvSpPr>
        <p:spPr/>
        <p:txBody>
          <a:bodyPr/>
          <a:p>
            <a:fld id="{68F0AA39-BA91-4381-8E5D-EB88012ED840}" type="slidenum">
              <a:t>9</a:t>
            </a:fld>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14:22:42Z</dcterms:created>
  <dc:creator>Robert Castiglione</dc:creator>
  <dc:description/>
  <dc:language>en-US</dc:language>
  <cp:lastModifiedBy>Robert Castiglione</cp:lastModifiedBy>
  <dcterms:modified xsi:type="dcterms:W3CDTF">2001-12-12T16:19:07Z</dcterms:modified>
  <cp:revision>15</cp:revision>
  <dc:subject/>
  <dc:title>Passenger Car Equipment  Safety Standards</dc:title>
</cp:coreProperties>
</file>