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2ABE6-726A-4803-9FD7-87BF00FFE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724A9-15A9-494C-88FE-09B1E97C4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F489A-B523-4A58-B9D9-5B2F3CFF4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4C869-76A7-48A7-997D-842588948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911E9-8910-46BA-95B4-2B158B180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270EF-F033-4386-89C5-FFCE15550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DC175-5178-4906-8EC8-C3569016C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A394B-9191-40DE-A414-207934F51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AAAFE-A6C4-4EA5-8FF6-9DE06F257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6B43D-5A44-4CA7-B08C-3538A7FFB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3DFD8-0313-4A08-BCBF-935821ACB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6B21D-8028-4E25-AA56-36C60F0C5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6265-C45C-41B9-96D3-CF01014172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enger Equipment Safety Standard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enarios and Answe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enario 3 Answer </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ing mark and car/locomotive number</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of railroa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of inspector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ct(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ment/safety restriction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ina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ature (if possible) /job title/location</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1</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ductor Brown, who is a qualified person (QP), is called to operate commuter train 242.  The train has one four-axle locomotive weighing 180,000 pounds and nine four-axle passenger cars, all equipped with tread braking units (TBU’s).</a:t>
            </a:r>
            <a:endParaRPr b="0" lang="en-US" sz="18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receiving a Class 1A Brake Test, train 242 departs the station with passengers.  The train operates eastward at maximum authorized speed.  At mile post 15, the train strikes debris and the train brakes apply in emergency.  Conductor Brown inspects the train and discovers damage to the service portion on two cars, and a hand brake fulcrum damaged on a third car.  The damage is so severe that it causes the service portion to leak on both cars.  Conductor Brown cuts out the air brakes system on both cars with damaged service portions which stops the air from leaking to atmosphere.  He also disconnects the hand brake on the  third car.  </a:t>
            </a:r>
            <a:endParaRPr b="0" lang="en-US" sz="18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ing this information compute the percentage of operative brakes remaining on train 242.</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1 Answer</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rain would have 80 % operative brake, 40 Axles, 8 axles cut out = 80 %.  Divide  the number of axles with operative brakes by total number of axles on train.  (32 / 40 = 80%).  Handbrakes are not to be considered when computing operative brak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1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sing the information  provided in Scenario 1, one of the cars with a defective service portion  has other defects which require that it be set out of the trai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w compute the percentage of operative brakes on train 242.</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1A Answer</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rain would now have 88.9 % or 89% effective brakes (36 Axles, 4 axles cut out = 88.8 %).  Divide  the number of axles with operative brakes by total number of axles on train.  (32 / 36 = 88.9%)</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2</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sing the percentage of operative brakes computed in Scenario 1, determine operating restrictions that must be placed on train for movement in compliance with Federal Regulations found in CFR 49 238.15.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o the same for Scenario 1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2 Answer</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enario 1:  75-84% operative brak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speed by half or 40 mph (less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to next forward location where repair can be mad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ssenger safety is at risk, move the train to the next forward passenger station where passengers can be safely unload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passengers discharged, moved to nearest location for repai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2 Answer </a:t>
            </a:r>
            <a:br>
              <a:rPr sz="4400"/>
            </a:br>
            <a:r>
              <a:rPr b="0" lang="en-US" sz="4400" spc="-1" strike="noStrike">
                <a:solidFill>
                  <a:srgbClr val="000000"/>
                </a:solidFill>
                <a:latin typeface="Times New Roman"/>
              </a:rPr>
              <a:t>Continued</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cenario 1A:  85-99 % operative brakes;</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to next forward location where repair can be made</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ssenger safety is at risk, move the train to the next forward passenger station where passengers can be safely unloaded</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passengers discharged, moved to nearest location for repair</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3</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 QMP performing a Calendar Day Inspection of passenger cars in an outlying yard discovers a running gear defect on passenger coach number 5000.  He determines that the coach must be moved to a central repair facility located 50 miles away.  The coach must not be moved in passenger service and must be moved in a non-revenue train.  Federal Regulations require that the defective equipment must be tagged or tracked in an automated tracking system prior to movement.  List the information required on the tag, card, or in the automated tracking system.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4T17:14:32Z</dcterms:created>
  <dc:creator>Robert Castiglione</dc:creator>
  <dc:description/>
  <dc:language>en-US</dc:language>
  <cp:lastModifiedBy>Robert Castiglione</cp:lastModifiedBy>
  <dcterms:modified xsi:type="dcterms:W3CDTF">2001-10-25T18:15:09Z</dcterms:modified>
  <cp:revision>3</cp:revision>
  <dc:subject/>
  <dc:title>Passenger Car Equipment Safety Standards</dc:title>
</cp:coreProperties>
</file>