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FCC2-2684-45CB-AFAC-444B580C1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taken from 232.107</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taken from 232.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taken from 232.2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efinition extracted from General requirements section 232.10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B not under Subpart 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manager, supervisor, official, or other employee or agent of a railroad; any owner, manufacturer, lessor, or lessee of railroad equipment, track, or facilities; any employee of such owner, manufacturer, lessor, lessee, or independent contracto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 Car or locomotiv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otice movement restrictions may apply.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two: FRA will record such a determination in writing, include a statement of the basis for such action, and provide a copy of the document to the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 Plant railroad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determining locations where necessary repairs can be performed. The following guidelines will be considered by FRA when determining whether a location is a location where repairs to a car's brake system or components can be performed and whether a location is the nearest location where the needed repairs can be effectuate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cisions will be made my HQ staff with input from the reg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5DBE6-120D-439F-B3C1-B296B6A24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45033-EC12-48BA-85FE-89C5AB476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2D1FD-BA47-4B03-87A3-B3BC01359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47888-1222-4C60-BBE1-1DF0562D3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37F5-4330-4821-875B-24E418C8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D916-E22A-446B-ABDC-A7B71F30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84CF8-EAE3-4EC3-9311-0E11B6542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A28E4-9DEB-43D7-A424-3636D6A3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C2F41-8048-4AA8-8F6D-76015BA6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9447-50A3-47F7-B057-66006C68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DDF6-4A5C-4C42-BBE6-F865665C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5A3E-45AF-4DF5-AF63-229FC57F5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6BD6-BCF9-41A8-87C6-C20E0CCFF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System Safety Standards for Freigh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part A –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e 1</a:t>
            </a:r>
            <a:endParaRPr b="0" lang="en-US" sz="3200" spc="-1" strike="noStrike">
              <a:solidFill>
                <a:srgbClr val="000000"/>
              </a:solidFill>
              <a:latin typeface="Times New Roman"/>
            </a:endParaRPr>
          </a:p>
        </p:txBody>
      </p:sp>
      <p:pic>
        <p:nvPicPr>
          <p:cNvPr id="50" name="j0178122" descr=""/>
          <p:cNvPicPr/>
          <p:nvPr/>
        </p:nvPicPr>
        <p:blipFill>
          <a:blip r:embed="rId1"/>
          <a:stretch/>
        </p:blipFill>
        <p:spPr>
          <a:xfrm>
            <a:off x="3429000" y="457200"/>
            <a:ext cx="2286000" cy="14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effectiv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ans a brake that is capable of producing its nominally designed retarding force on the train. A car's air brake is not considered effective if it is not capable of producing its nominally designed retarding force or if its piston travel exceeds:</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½  inches for cars equipped with nominal 12-inch stroke brake cylinders; or</a:t>
            </a:r>
            <a:endParaRPr b="0" lang="en-US" sz="24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ston travel limit indicated on the stencil, sticker, or badge plate for that brake cylind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3EC0D9F2-FC83-4CB8-B75D-6F378E256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indicator</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device which indicates the brake application range and indicates whether brakes are applied and releas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D068AE9-A1B7-45B8-B450-604E048F2C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inoperativ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primary brake that, for any reason, no longer applies or releases as inten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EE8400AC-564B-4C79-87DA-B0BFE16B8A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secondary</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ose components of the train brake system which develop supplemental brake retarding force that is not needed to stop the train within signal spacing distances or to prevent thermal damage to whee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D048CF78-F946-4A65-BA0D-9A3AB390F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ke, primary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ose components of the train brake system necessary to stop the train within the signal spacing distance without thermal damage to friction braking surfa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7D34D14-9AAC-4567-8E8A-1407A6C182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d weathe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when the ambient temperature drops below 10 degrees Fahrenheit (F) (minus 12.2 degrees Celsiu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7B305CBA-A145-4008-8655-DD7EBD8E3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actor</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person under contract with the railroad or car own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FF9709FF-83EA-41C9-BE88-F58DEF9A2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f air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not connected to a continuous source of compressed air of at least 60 pounds per square inch (psi).</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CDE6EAFA-3C2F-4911-B7E6-83FC9BC3C1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dered date or date ordered</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e date on which notice to proceed is given by a procuring railroad to a contractor or supplier for new equip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7756D7EE-F119-4736-A54B-F50944DB6A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ston travel</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e amount of linear movement of the air brake hollow rod (or equivalent) or piston rod when forced outward by movement of the piston in the brake cylinder or actuator and limited by the brake shoes being forced against the wheel or dis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1604404-0A78-4BE3-B6ED-45E94E710E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e Objectiv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proper train placement of equipment with inoperative brakes based on a given scenari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 the percentage of operative brakes based on a given scenari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the elements that characterize a location where brake repairs can be perform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61D5D28-C48F-4679-997F-4B708CF9C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revenue service</a:t>
            </a:r>
            <a:br>
              <a:rPr sz="4400"/>
            </a:br>
            <a:r>
              <a:rPr b="0" lang="en-US" sz="4400" spc="-1" strike="noStrike">
                <a:solidFill>
                  <a:srgbClr val="000000"/>
                </a:solidFill>
                <a:latin typeface="Times New Roman"/>
              </a:rPr>
              <a:t>acceptance testing plan </a:t>
            </a:r>
            <a:endParaRPr b="0" lang="en-US" sz="4400" spc="-1" strike="noStrike">
              <a:solidFill>
                <a:srgbClr val="000000"/>
              </a:solidFill>
              <a:latin typeface="Times New Roman"/>
            </a:endParaRPr>
          </a:p>
        </p:txBody>
      </p:sp>
      <p:sp>
        <p:nvSpPr>
          <p:cNvPr id="8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Means a document, as further specified in § 232.505, prepared by a railroad that explains in detail how pre-revenue service tests of certain equipment demonstrate that the equipment meets Federal safety standards and the railroad's own safety design requir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2081779D-DCD4-40C9-99BF-DDCFE7B34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ly tested equipment</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equipment that has received a Class I brake test pursuant to §232.205 and has not been off air for more than four hou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3F434C8C-1A38-4683-8C84-65B254619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responsibility</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he task that a person performs at least 50 percent of the time. The totality of the circumstances will be considered on a case-by-case basis in circumstances where an individual does not spend 50 percent of the day engaged in any one readily identifiable type of activit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5CD6F4E-1DF1-4F02-99E4-75739120B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ed mechanical inspector</a:t>
            </a:r>
            <a:endParaRPr b="0" lang="en-US" sz="3600" spc="-1" strike="noStrike">
              <a:solidFill>
                <a:srgbClr val="000000"/>
              </a:solidFill>
              <a:latin typeface="Times New Roman"/>
            </a:endParaRPr>
          </a:p>
        </p:txBody>
      </p:sp>
      <p:sp>
        <p:nvSpPr>
          <p:cNvPr id="95" name="PlaceHolder 2"/>
          <p:cNvSpPr>
            <a:spLocks noGrp="1"/>
          </p:cNvSpPr>
          <p:nvPr>
            <p:ph/>
          </p:nvPr>
        </p:nvSpPr>
        <p:spPr>
          <a:xfrm>
            <a:off x="0" y="990720"/>
            <a:ext cx="9144000" cy="4114800"/>
          </a:xfrm>
          <a:prstGeom prst="rect">
            <a:avLst/>
          </a:prstGeom>
          <a:noFill/>
          <a:ln w="0">
            <a:noFill/>
          </a:ln>
        </p:spPr>
        <p:txBody>
          <a:bodyPr lIns="90000" rIns="90000" tIns="46800" bIns="46800" anchor="t">
            <a:normAutofit fontScale="89000"/>
          </a:bodyPr>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ns a qualified person who has received, as a part of the training, qualification, and designation program required under §232.203:</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and training that includes "hands-on" experience (under appropriate supervision or apprenticeship) in one or more of the following functions: </a:t>
            </a:r>
            <a:r>
              <a:rPr b="0" lang="en-US" sz="2400" spc="-1" strike="noStrike" u="sng">
                <a:solidFill>
                  <a:srgbClr val="000000"/>
                </a:solidFill>
                <a:uFillTx/>
                <a:latin typeface="Times New Roman"/>
              </a:rPr>
              <a:t>troubleshooting, inspection, testing, maintenance or repair of the specific train brake components and systems for which the person is assigned respons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erson shall also possess a current understanding of what is required to properly repair and maintain the safety-critical brake components for which the person is assigned responsibility. </a:t>
            </a:r>
            <a:r>
              <a:rPr b="0" lang="en-US" sz="2400" spc="-1" strike="noStrike" u="sng">
                <a:solidFill>
                  <a:srgbClr val="000000"/>
                </a:solidFill>
                <a:uFillTx/>
                <a:latin typeface="Times New Roman"/>
              </a:rPr>
              <a:t>Further, the qualified mechanical inspector shall be a person whose primary responsibility includes work generally consistent with the functions listed in this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9E013AB9-B642-40B0-9643-78FF79299E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fied person</a:t>
            </a:r>
            <a:endParaRPr b="0" lang="en-US" sz="4400" spc="-1" strike="noStrike">
              <a:solidFill>
                <a:srgbClr val="000000"/>
              </a:solidFill>
              <a:latin typeface="Times New Roman"/>
            </a:endParaRPr>
          </a:p>
        </p:txBody>
      </p:sp>
      <p:sp>
        <p:nvSpPr>
          <p:cNvPr id="97" name="PlaceHolder 2"/>
          <p:cNvSpPr>
            <a:spLocks noGrp="1"/>
          </p:cNvSpPr>
          <p:nvPr>
            <p:ph/>
          </p:nvPr>
        </p:nvSpPr>
        <p:spPr>
          <a:xfrm>
            <a:off x="152280" y="1218960"/>
            <a:ext cx="8763120" cy="43434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Means a person who has received, as a part of the training, qualification, and designation program required under §232.203, instruction and training necessary to perform one or more functions required under this part. </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railroad is responsible for:</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that the person has the knowledge and skills necessary to perform the required function for which the person is assigned responsibility. </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s the qualifications and competencies for employees designated to perform various functions in the manner set forth in this part. </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the required functions for which an individual will be deemed a "qualified person" based upon the instruction and training the individual has received pursuant to §232.203 concerning a particular function.</a:t>
            </a:r>
            <a:endParaRPr b="0" lang="en-US" sz="2000" spc="-1" strike="noStrike">
              <a:solidFill>
                <a:srgbClr val="000000"/>
              </a:solidFill>
              <a:latin typeface="Times New Roman"/>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Although the rule uses the term "qualified person" to describe a person responsible for performing various functions required under this part, a person may be deemed qualified to perform some functions but not qualified to perform other functions. For example, although a person may be deemed qualified to perform the Class II/intermediate brake test required by this part, that same person may or may not be deemed qualified to perform the Class I/initial Terminal brake test or authorize the movement of defective equipment under this par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276394D-D56B-4A06-8126-5DE1F3BD5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built equipment</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equipment that has undergone overhaul identified by the railroad as a capital expense under the Surface Transportation Board's accounting standar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94D2D6ED-AD9A-4125-8AA2-11C56982C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l-by"</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n inspection performed while equipment is mov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7492C9E-128A-42B6-B881-963D199C6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id block of car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two or more freight cars coupled together and added to or removed from a train as a single uni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6604E36C-43BB-4FE4-803D-992B8F427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unit or train, cycl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a train that, except for the changing of locomotive power and the removal or replacement of defective equipment, remains coupled as a consist and continuously operates from location A to location B and back to location 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711F6700-0503-47D2-A1AC-D9A8ECEFC0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attended equipment</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eans equipment left standing and unmanned in such a manner that the brake system of the equipment cannot be readily controlled by a qualified person.</a:t>
            </a:r>
            <a:endParaRPr b="0" lang="en-US" sz="3200" spc="-1" strike="noStrike">
              <a:solidFill>
                <a:srgbClr val="000000"/>
              </a:solidFill>
              <a:latin typeface="Times New Roman"/>
            </a:endParaRPr>
          </a:p>
        </p:txBody>
      </p:sp>
      <p:pic>
        <p:nvPicPr>
          <p:cNvPr id="108" name="j0283543" descr=""/>
          <p:cNvPicPr/>
          <p:nvPr/>
        </p:nvPicPr>
        <p:blipFill>
          <a:blip r:embed="rId1"/>
          <a:stretch/>
        </p:blipFill>
        <p:spPr>
          <a:xfrm>
            <a:off x="6477120" y="4648320"/>
            <a:ext cx="1447560" cy="1296720"/>
          </a:xfrm>
          <a:prstGeom prst="rect">
            <a:avLst/>
          </a:prstGeom>
          <a:ln w="0">
            <a:noFill/>
          </a:ln>
        </p:spPr>
      </p:pic>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C056D4CB-9B47-4B14-9041-73FCEF05E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part A</a:t>
            </a:r>
            <a:endParaRPr b="0" lang="en-US" sz="4000" spc="-1" strike="noStrike">
              <a:solidFill>
                <a:srgbClr val="000000"/>
              </a:solidFill>
              <a:latin typeface="Times New Roman"/>
            </a:endParaRPr>
          </a:p>
        </p:txBody>
      </p:sp>
      <p:sp>
        <p:nvSpPr>
          <p:cNvPr id="54" name="PlaceHolder 2"/>
          <p:cNvSpPr>
            <a:spLocks noGrp="1"/>
          </p:cNvSpPr>
          <p:nvPr>
            <p:ph/>
          </p:nvPr>
        </p:nvSpPr>
        <p:spPr>
          <a:xfrm>
            <a:off x="533520" y="114300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 232.1</a:t>
            </a:r>
            <a:endParaRPr b="0" lang="en-US" sz="2400" spc="-1" strike="noStrike">
              <a:solidFill>
                <a:srgbClr val="000000"/>
              </a:solidFill>
              <a:latin typeface="Times New Roman"/>
            </a:endParaRPr>
          </a:p>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ility – 232.3</a:t>
            </a:r>
            <a:endParaRPr b="0" lang="en-US" sz="2400" spc="-1" strike="noStrike">
              <a:solidFill>
                <a:srgbClr val="000000"/>
              </a:solidFill>
              <a:latin typeface="Times New Roman"/>
            </a:endParaRPr>
          </a:p>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 – 232.5</a:t>
            </a:r>
            <a:endParaRPr b="0" lang="en-US" sz="2400" spc="-1" strike="noStrike">
              <a:solidFill>
                <a:srgbClr val="000000"/>
              </a:solidFill>
              <a:latin typeface="Times New Roman"/>
            </a:endParaRPr>
          </a:p>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vers – 232.7</a:t>
            </a:r>
            <a:endParaRPr b="0" lang="en-US" sz="2400" spc="-1" strike="noStrike">
              <a:solidFill>
                <a:srgbClr val="000000"/>
              </a:solidFill>
              <a:latin typeface="Times New Roman"/>
            </a:endParaRPr>
          </a:p>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y for compliance 232.9</a:t>
            </a:r>
            <a:endParaRPr b="0" lang="en-US" sz="2400" spc="-1" strike="noStrike">
              <a:solidFill>
                <a:srgbClr val="000000"/>
              </a:solidFill>
              <a:latin typeface="Times New Roman"/>
            </a:endParaRPr>
          </a:p>
          <a:p>
            <a:pPr marL="277560" indent="-277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lties – 232.11</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emptive effect –232.13</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ment of defective equip.– 232.15</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approval procedure – 232.17</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of records – 232.19</a:t>
            </a:r>
            <a:endParaRPr b="0" lang="en-US" sz="2400" spc="-1" strike="noStrike">
              <a:solidFill>
                <a:srgbClr val="000000"/>
              </a:solidFill>
              <a:latin typeface="Times New Roman"/>
            </a:endParaRPr>
          </a:p>
          <a:p>
            <a:pPr marL="277560" indent="-27756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ollection – 232.21</a:t>
            </a:r>
            <a:endParaRPr b="0" lang="en-US" sz="2400" spc="-1" strike="noStrike">
              <a:solidFill>
                <a:srgbClr val="000000"/>
              </a:solidFill>
              <a:latin typeface="Times New Roman"/>
            </a:endParaRPr>
          </a:p>
        </p:txBody>
      </p:sp>
      <p:sp>
        <p:nvSpPr>
          <p:cNvPr id="55" name=""/>
          <p:cNvSpPr/>
          <p:nvPr/>
        </p:nvSpPr>
        <p:spPr>
          <a:xfrm>
            <a:off x="820800" y="4735440"/>
            <a:ext cx="45622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A94A752-DDBD-453B-93A1-8241EB84EC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ivers</a:t>
            </a:r>
            <a:endParaRPr b="0" lang="en-US" sz="4400" spc="-1" strike="noStrike">
              <a:solidFill>
                <a:srgbClr val="000000"/>
              </a:solidFill>
              <a:latin typeface="Times New Roman"/>
            </a:endParaRPr>
          </a:p>
        </p:txBody>
      </p:sp>
      <p:sp>
        <p:nvSpPr>
          <p:cNvPr id="110" name="PlaceHolder 2"/>
          <p:cNvSpPr>
            <a:spLocks noGrp="1"/>
          </p:cNvSpPr>
          <p:nvPr>
            <p:ph/>
          </p:nvPr>
        </p:nvSpPr>
        <p:spPr>
          <a:xfrm>
            <a:off x="533160" y="1981080"/>
            <a:ext cx="83055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vers sought for relief of compliance with Part 232 shall be submitted under Part 21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lways, a waiver in the pipeline doesn’t mean the petitioner has relief from compliance while the waiver is being investigated and/or considered by the Safety Boar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114AB8F7-FF0A-445D-B499-72E736D108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onsibility for complianc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ilroad shall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haul, permit to be used or hauled on its lin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er in interchange, or accept in interchange any train, a railroad car, or locomotive with,</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or more conditions not in compliance with  Part 232, unless movement is made in accordance with §232.15.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11BC7BF4-2057-4788-A6D8-36A1C7AC40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vs. Haul</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interpretation of language in Safety Appliance Acts that allows FRA to take a more aggressive approach with respect to issuance of a vio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urposes of this part, a train, railroad car, or locomotive will be considered in use prior to departure but after it has received, or should have received, the inspection required for movement and is deemed ready for servic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85A78834-C87D-46FA-AE64-390F755568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vs. Haul cont.</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elying on the broad interpretation the violation report must establish that the railroad must have completed all necessary inspections remotely capable of discovering the defective condi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evidence must be included to establish the inspectors basis for the above findings be specific as possible, e.g., names, dates, locations,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is is added enforcement flexibility,   the best violations are those citing actual movement of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A23F99F9-1367-49C2-9157-01EFBDB7F2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on vs. Railroa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term railroad is intended to be used synonymously or interchangeably with person, meaning that failure to comply with the requirements of Part 232 could subject the railroad and/or person to FRA enforcement acti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703427BF-9E32-4269-876F-C14E36E74F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lties</a:t>
            </a:r>
            <a:endParaRPr b="0" lang="en-US" sz="4400" spc="-1" strike="noStrike">
              <a:solidFill>
                <a:srgbClr val="000000"/>
              </a:solidFill>
              <a:latin typeface="Times New Roman"/>
            </a:endParaRPr>
          </a:p>
        </p:txBody>
      </p:sp>
      <p:sp>
        <p:nvSpPr>
          <p:cNvPr id="12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 can assess a violation (civil penalty) on any railroad and/or person, an amount of at least $500 to $11,000 per violation.</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s against individuals must be willful in nature.</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lties of up to $22,000 may be assessed where a grossly negligent violation or a pattern of repeated violations has created an imminent hazard of death or injury to persons, or has caused death or injury.</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ion may be assessed each day the violation exists with sufficient documentation.</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minal penalties may be sought against any person who  knowingly and willfully falsifies a record or report required by Part 23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D571B513-4D03-4B6A-868D-D0C36D6E86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emptive effect</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ohibits states from enacting and imposing regulations on the railroad industry covering the same subject matter, but allows states to enforce State criminal law in cases of reckless conduct that leads to actual loss of life, injury, or damage to property, whether such provisions apply specifically to railroad employees or generally to the public at larg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A68CBE5F-AC4B-48FD-82A1-659713135E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ment of defective equipment</a:t>
            </a:r>
            <a:br>
              <a:rPr sz="4400"/>
            </a:b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rPr>
              <a:t>232.15</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rmits for the conditional movement of defective locomotive(s) or car(s) with one or more air brake related defects, except from locations where Class I brake tests are required to be performed on the entire tra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E3F43341-987E-4488-A857-7C0EA08087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Conditions for movement</a:t>
            </a:r>
            <a:endParaRPr b="0" lang="en-US" sz="3200" spc="-1" strike="noStrike">
              <a:solidFill>
                <a:srgbClr val="000000"/>
              </a:solidFill>
              <a:latin typeface="Times New Roman"/>
            </a:endParaRPr>
          </a:p>
        </p:txBody>
      </p:sp>
      <p:sp>
        <p:nvSpPr>
          <p:cNvPr id="126" name="PlaceHolder 2"/>
          <p:cNvSpPr>
            <a:spLocks noGrp="1"/>
          </p:cNvSpPr>
          <p:nvPr>
            <p:ph/>
          </p:nvPr>
        </p:nvSpPr>
        <p:spPr>
          <a:xfrm>
            <a:off x="304920" y="1143000"/>
            <a:ext cx="8534160" cy="4114800"/>
          </a:xfrm>
          <a:prstGeom prst="rect">
            <a:avLst/>
          </a:prstGeom>
          <a:noFill/>
          <a:ln w="0">
            <a:noFill/>
          </a:ln>
        </p:spPr>
        <p:txBody>
          <a:bodyPr lIns="90000" rIns="90000" tIns="46800" bIns="46800" anchor="t">
            <a:normAutofit fontScale="87000"/>
          </a:bodyPr>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pment is properly equipped to being with.</a:t>
            </a:r>
            <a:endParaRPr b="0" lang="en-US" sz="2400" spc="-1" strike="noStrike">
              <a:solidFill>
                <a:srgbClr val="000000"/>
              </a:solidFill>
              <a:latin typeface="Times New Roman"/>
            </a:endParaRPr>
          </a:p>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pment becomes defective while it is being used by the railroad on its line or becomes defective on a connecting railroad and properly accepted in interchange for repairs in accordance with item 7 on the next slide.</a:t>
            </a:r>
            <a:endParaRPr b="0" lang="en-US" sz="2400" spc="-1" strike="noStrike">
              <a:solidFill>
                <a:srgbClr val="000000"/>
              </a:solidFill>
              <a:latin typeface="Times New Roman"/>
            </a:endParaRPr>
          </a:p>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ilroad has knowledge of the defect prior to moving it for repairs.</a:t>
            </a:r>
            <a:endParaRPr b="0" lang="en-US" sz="2400" spc="-1" strike="noStrike">
              <a:solidFill>
                <a:srgbClr val="000000"/>
              </a:solidFill>
              <a:latin typeface="Times New Roman"/>
            </a:endParaRPr>
          </a:p>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vement of the defective equipment for repairs is from the location where the equipment is first discovered defective by the railroad.</a:t>
            </a:r>
            <a:endParaRPr b="0" lang="en-US" sz="2400" spc="-1" strike="noStrike">
              <a:solidFill>
                <a:srgbClr val="000000"/>
              </a:solidFill>
              <a:latin typeface="Times New Roman"/>
            </a:endParaRPr>
          </a:p>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ipment cannot be repaired at the location where the railroad first discovers it to be defective.</a:t>
            </a:r>
            <a:endParaRPr b="0" lang="en-US" sz="2400" spc="-1" strike="noStrike">
              <a:solidFill>
                <a:srgbClr val="000000"/>
              </a:solidFill>
              <a:latin typeface="Times New Roman"/>
            </a:endParaRPr>
          </a:p>
          <a:p>
            <a:pPr marL="464040" indent="-464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vement of the equipment is necessary to make repairs to the defective condition.</a:t>
            </a:r>
            <a:endParaRPr b="0" lang="en-US" sz="2400" spc="-1" strike="noStrike">
              <a:solidFill>
                <a:srgbClr val="000000"/>
              </a:solidFill>
              <a:latin typeface="Times New Roman"/>
            </a:endParaRPr>
          </a:p>
          <a:p>
            <a:pPr marL="46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80BA602-EF1A-4118-A951-EE78DCD3BD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Conditions for movement – Continued</a:t>
            </a: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to which the equipment is being taken for repair is the nearest available location where necessary repairs can be performed on the line of the railroad where the equipment was first found to be defective or is the nearest available location where necessary repairs can be performed on the line of a connecting railroad if:</a:t>
            </a:r>
            <a:endParaRPr b="0" lang="en-US" sz="2400" spc="-1" strike="noStrike">
              <a:solidFill>
                <a:srgbClr val="000000"/>
              </a:solidFill>
              <a:latin typeface="Times New Roman"/>
            </a:endParaRPr>
          </a:p>
          <a:p>
            <a:pPr lvl="1" marL="891360" indent="-479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necting railroad elects to accept the defective car or locomotive for such repair; and</a:t>
            </a:r>
            <a:endParaRPr b="0" lang="en-US" sz="2400" spc="-1" strike="noStrike">
              <a:solidFill>
                <a:srgbClr val="000000"/>
              </a:solidFill>
              <a:latin typeface="Times New Roman"/>
            </a:endParaRPr>
          </a:p>
          <a:p>
            <a:pPr lvl="1" marL="891360" indent="-479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arest available location where necessary repairs can be performed on the line of the connecting railroad is no farther than the nearest available location where necessary repairs can be performed on the line of the railroad where the car or locomotive was found defecti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3D785B81-04A7-419A-B7DC-28941DC93A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ggered Implementation</a:t>
            </a:r>
            <a:br>
              <a:rPr sz="4400"/>
            </a:br>
            <a:r>
              <a:rPr b="0" lang="en-US" sz="4400" spc="-1" strike="noStrike">
                <a:solidFill>
                  <a:srgbClr val="000000"/>
                </a:solidFill>
                <a:latin typeface="Times New Roman"/>
              </a:rPr>
              <a:t>Key Dates</a:t>
            </a:r>
            <a:endParaRPr b="0" lang="en-US" sz="4400" spc="-1" strike="noStrike">
              <a:solidFill>
                <a:srgbClr val="000000"/>
              </a:solidFill>
              <a:latin typeface="Times New Roman"/>
            </a:endParaRPr>
          </a:p>
        </p:txBody>
      </p:sp>
      <p:sp>
        <p:nvSpPr>
          <p:cNvPr id="57"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31, 2001 - All of Subpart A with the exception of “Movement of defective equipment provisions” and Subpart E, End-of-Train De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gust1, 2001 – Subpart D, Periodic Maintenance &amp; Test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l 1, 2004 – Subparts B, C, F and “Movement of defective equipments provisions” from Subpart 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F46EC764-5837-4D0D-ABEF-81CE0C43C6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Conditions for movement – Continued</a:t>
            </a:r>
            <a:endParaRPr b="0" lang="en-US" sz="3200" spc="-1" strike="noStrike">
              <a:solidFill>
                <a:srgbClr val="000000"/>
              </a:solidFill>
              <a:latin typeface="Times New Roman"/>
            </a:endParaRPr>
          </a:p>
        </p:txBody>
      </p:sp>
      <p:sp>
        <p:nvSpPr>
          <p:cNvPr id="13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vement of the defective car or locomotive for repairs is not by a train required to receive a Class I brake te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vement of the defective car or locomotive for repairs is not in a train in which less than 85 percent of the cars have operative and effective brake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ective car or locomotive is tagged, or information is recorded, as required.</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DEA307F9-BA33-46F9-B1D9-07283B6259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Determinations for movement</a:t>
            </a:r>
            <a:endParaRPr b="0" lang="en-US" sz="3200" spc="-1" strike="noStrike">
              <a:solidFill>
                <a:srgbClr val="000000"/>
              </a:solidFill>
              <a:latin typeface="Times New Roman"/>
            </a:endParaRPr>
          </a:p>
        </p:txBody>
      </p:sp>
      <p:sp>
        <p:nvSpPr>
          <p:cNvPr id="132" name="PlaceHolder 2"/>
          <p:cNvSpPr>
            <a:spLocks noGrp="1"/>
          </p:cNvSpPr>
          <p:nvPr>
            <p:ph/>
          </p:nvPr>
        </p:nvSpPr>
        <p:spPr>
          <a:xfrm>
            <a:off x="533520" y="1523880"/>
            <a:ext cx="861048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A qualified person* shall determine:</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t is safe to move the defective equipment, and</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ximum safe speed and other restrictions necessary for safely conducting the moveme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May be qualified maintenance inspector as wel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F25155B8-B5AB-493D-B485-AB7E2174F9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Notification to crew</a:t>
            </a:r>
            <a:endParaRPr b="0" lang="en-US" sz="3200" spc="-1" strike="noStrike">
              <a:solidFill>
                <a:srgbClr val="000000"/>
              </a:solidFill>
              <a:latin typeface="Times New Roman"/>
            </a:endParaRPr>
          </a:p>
        </p:txBody>
      </p:sp>
      <p:sp>
        <p:nvSpPr>
          <p:cNvPr id="13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on in charge of the train in which the defective equipment is to be moved shall be notified in writing and inform all other crew members of the presence of the defective equipment and the maximum speed and other restrictions impos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py of the tag or card described in the following slides will meet the notification of crew requir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567C83D-A331-40FB-A577-AF1913ACD5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Tagging</a:t>
            </a:r>
            <a:endParaRPr b="0" lang="en-US" sz="32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location where the defect is first discovered, a tag or card shall be placed on both sides of the defective equipment, except when a locomotive, a card or tag can be placed in the c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d reporting if approved by FRA is also accepta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715AD7E3-87C4-48BA-8C5E-67419267F3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Tagging - Information Required </a:t>
            </a:r>
            <a:endParaRPr b="0" lang="en-US" sz="3200" spc="-1" strike="noStrike">
              <a:solidFill>
                <a:srgbClr val="000000"/>
              </a:solidFill>
              <a:latin typeface="Times New Roman"/>
            </a:endParaRPr>
          </a:p>
        </p:txBody>
      </p:sp>
      <p:sp>
        <p:nvSpPr>
          <p:cNvPr id="138" name="PlaceHolder 2"/>
          <p:cNvSpPr>
            <a:spLocks noGrp="1"/>
          </p:cNvSpPr>
          <p:nvPr>
            <p:ph/>
          </p:nvPr>
        </p:nvSpPr>
        <p:spPr>
          <a:xfrm>
            <a:off x="304920" y="1447920"/>
            <a:ext cx="82296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tag, card or automated (electronic) tracking system shall contain the following:</a:t>
            </a:r>
            <a:endParaRPr b="0" lang="en-US" sz="24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porting mark and car or locomotive number.</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of the inspecting railroad.</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me and job title of the inspector.</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spection location and date.</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e of each defect.</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scription of any movement restrictions.</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tination where the equipment will be repaired; and</a:t>
            </a:r>
            <a:endParaRPr b="0" lang="en-US" sz="2000" spc="-1" strike="noStrike">
              <a:solidFill>
                <a:srgbClr val="000000"/>
              </a:solidFill>
              <a:latin typeface="Times New Roman"/>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ature, or electronic identification, of the person reporting the defective condi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91410BF6-3C96-4E86-8428-3C68B1BB50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Tagging – Retention, Removal &amp; Documentation</a:t>
            </a:r>
            <a:endParaRPr b="0" lang="en-US" sz="3200" spc="-1" strike="noStrike">
              <a:solidFill>
                <a:srgbClr val="000000"/>
              </a:solidFill>
              <a:latin typeface="Times New Roman"/>
            </a:endParaRPr>
          </a:p>
        </p:txBody>
      </p:sp>
      <p:sp>
        <p:nvSpPr>
          <p:cNvPr id="14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lectronic or written record or a copy of each tag or card attached to or removed from a car or locomotive shall be retained for 90 days and, upon request, shall be made available within 15 calendar days for inspection by FR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ag or card removed from a car or locomotive shall contain the date, location, reason for its removal, and the signature of the person who removed it from the piece of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855968B5-15B8-436F-B475-654766D314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Automated Tracking System (ATS)</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FRA approved ATS shall contain the elements previously discussed and shall be capable of being reviewed and monitored by FRA at any time to ensure the integrity of the system.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s Associate Administrator for Safety may prohibit or revoke a railroad's authority to use ATS in lieu of tagging if FRA finds that ATS is not properly secure, is inaccessible to FRA or a railroad's employees, or fails to adequately track and monitor the movement of defective equipmen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C460D7EE-BC6B-4452-8CD0-F0F6049745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Purging or unloading Haz-mat</a:t>
            </a:r>
            <a:endParaRPr b="0" lang="en-US" sz="3200" spc="-1" strike="noStrike">
              <a:solidFill>
                <a:srgbClr val="000000"/>
              </a:solidFill>
              <a:latin typeface="Times New Roman"/>
            </a:endParaRPr>
          </a:p>
        </p:txBody>
      </p:sp>
      <p:sp>
        <p:nvSpPr>
          <p:cNvPr id="1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 defective car is loaded with a hazardous material or contains residue of a hazardous material, the car may not be placed for unloading or purging unless unloading or purging is consistent with determinations made and restrictions imposed by the qualified person and the unloading or purging is necessary for the safe repair of the ca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A9850691-09E5-4221-8999-E3DAF21417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Computation of % operative brakes</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lculating the percentage of operative brakes shall be determined by dividing the number of control valves that are cut-in by the total number of control valves in the train. </a:t>
            </a:r>
            <a:r>
              <a:rPr b="0" lang="en-US" sz="3200" spc="-1" strike="noStrike" u="sng">
                <a:solidFill>
                  <a:srgbClr val="000000"/>
                </a:solidFill>
                <a:uFillTx/>
                <a:latin typeface="Times New Roman"/>
              </a:rPr>
              <a:t>A control valve shall not be considered cut-in if the brakes controlled by that valve are inoperative.</a:t>
            </a:r>
            <a:r>
              <a:rPr b="0" lang="en-US" sz="3200" spc="-1" strike="noStrike">
                <a:solidFill>
                  <a:srgbClr val="000000"/>
                </a:solidFill>
                <a:latin typeface="Times New Roman"/>
              </a:rPr>
              <a:t> Both cars and locomotives shall be considered when making this calcul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F7897D52-65BF-47B7-8313-A8809704CA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Other brake related defects</a:t>
            </a:r>
            <a:endParaRPr b="0" lang="en-US" sz="3200" spc="-1" strike="noStrike">
              <a:solidFill>
                <a:srgbClr val="000000"/>
              </a:solidFill>
              <a:latin typeface="Times New Roman"/>
            </a:endParaRPr>
          </a:p>
        </p:txBody>
      </p:sp>
      <p:sp>
        <p:nvSpPr>
          <p:cNvPr id="148" name="PlaceHolder 2"/>
          <p:cNvSpPr>
            <a:spLocks noGrp="1"/>
          </p:cNvSpPr>
          <p:nvPr>
            <p:ph/>
          </p:nvPr>
        </p:nvSpPr>
        <p:spPr>
          <a:xfrm>
            <a:off x="380520" y="1523880"/>
            <a:ext cx="845820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 not consider the following when calculating percentage of operative brak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operative secondary brake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operative hand or parking brak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T in excess of Class I limits but not in excess of limits contained on stencil/badge pl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due COT&am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C0F7BC5E-366F-4341-B891-14B2731E1D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Railroads ?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new Brake System Safety Standards for Freight apply only to freight railroads (excludes Subpart E – EOT’s, applies to passenger as well), operating freight trains operating over the general system of transport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74B0974-D279-4F30-89C2-6B4320E690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Train placement – Equipment w/ Inop Brakes</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at the rear of the tr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more than two adjoi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unit articulated car with more than two control valves c/o if the brakes controlled by the valves are inoper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A8B08C67-D519-4F0F-91AE-1C1B5911B2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ement of defective equipment</a:t>
            </a: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Locations where necessary repairs can be performed</a:t>
            </a:r>
            <a:endParaRPr b="0" lang="en-US" sz="3200" spc="-1" strike="noStrike">
              <a:solidFill>
                <a:srgbClr val="000000"/>
              </a:solidFill>
              <a:latin typeface="Times New Roman"/>
            </a:endParaRPr>
          </a:p>
        </p:txBody>
      </p:sp>
      <p:sp>
        <p:nvSpPr>
          <p:cNvPr id="152" name="PlaceHolder 2"/>
          <p:cNvSpPr>
            <a:spLocks noGrp="1"/>
          </p:cNvSpPr>
          <p:nvPr>
            <p:ph/>
          </p:nvPr>
        </p:nvSpPr>
        <p:spPr>
          <a:xfrm>
            <a:off x="228600" y="1295280"/>
            <a:ext cx="8763120" cy="3733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ollowing locations should be considered when applying the guidelines presented in the next slide:</a:t>
            </a:r>
            <a:endParaRPr b="0" lang="en-US" sz="3200" spc="-1" strike="noStrike">
              <a:solidFill>
                <a:srgbClr val="000000"/>
              </a:solidFill>
              <a:latin typeface="Times New Roman"/>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ion where a mobile repair truck is used on a regular basis.</a:t>
            </a:r>
            <a:endParaRPr b="0" lang="en-US" sz="2800" spc="-1" strike="noStrike">
              <a:solidFill>
                <a:srgbClr val="000000"/>
              </a:solidFill>
              <a:latin typeface="Times New Roman"/>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ion where a mobile repair truck originates or is permanently stationed.</a:t>
            </a:r>
            <a:endParaRPr b="0" lang="en-US" sz="2800" spc="-1" strike="noStrike">
              <a:solidFill>
                <a:srgbClr val="000000"/>
              </a:solidFill>
              <a:latin typeface="Times New Roman"/>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ion at which a railroad performs mechanical repairs other than brake system repairs.</a:t>
            </a:r>
            <a:endParaRPr b="0" lang="en-US" sz="2800" spc="-1" strike="noStrike">
              <a:solidFill>
                <a:srgbClr val="000000"/>
              </a:solidFill>
              <a:latin typeface="Times New Roman"/>
            </a:endParaRPr>
          </a:p>
          <a:p>
            <a:pPr lvl="1" marL="683280" indent="-2628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tion that has an operative repair track or repair sho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2F3A50A-A888-484D-9536-92EBDCF63E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ment of defective equipment</a:t>
            </a:r>
            <a:br>
              <a:rPr sz="3200"/>
            </a:br>
            <a:r>
              <a:rPr b="0" lang="en-US" sz="3200" spc="-1" strike="noStrike">
                <a:solidFill>
                  <a:srgbClr val="000000"/>
                </a:solidFill>
                <a:latin typeface="Times New Roman"/>
              </a:rPr>
              <a:t>Guidelines  </a:t>
            </a:r>
            <a:endParaRPr b="0" lang="en-US" sz="3200" spc="-1" strike="noStrike">
              <a:solidFill>
                <a:srgbClr val="000000"/>
              </a:solidFill>
              <a:latin typeface="Times New Roman"/>
            </a:endParaRPr>
          </a:p>
        </p:txBody>
      </p:sp>
      <p:sp>
        <p:nvSpPr>
          <p:cNvPr id="154" name="PlaceHolder 2"/>
          <p:cNvSpPr>
            <a:spLocks noGrp="1"/>
          </p:cNvSpPr>
          <p:nvPr>
            <p:ph/>
          </p:nvPr>
        </p:nvSpPr>
        <p:spPr>
          <a:xfrm>
            <a:off x="152280" y="1066680"/>
            <a:ext cx="883944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should be accessible to persons responsible for making repairs.</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hazardous conditions that affect the ability to safely make repairs of the type needed at the locatio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the repair and what will it take to fix it.</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the railroad to have in place an effective means to ensure the safe and timely repair of equipment.</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 conditions creating a hazardous situation.</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doesn’t need to be continuously staffed nor does it have to have the ability to effect every type of brake system repair, or perform a SCT.</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of work at the location is a non-issu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460BBCC-533E-4067-9D48-D34CD9FE48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ement of defective equipment</a:t>
            </a:r>
            <a:br>
              <a:rPr sz="3600"/>
            </a:br>
            <a:r>
              <a:rPr b="0"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156" name="PlaceHolder 2"/>
          <p:cNvSpPr>
            <a:spLocks noGrp="1"/>
          </p:cNvSpPr>
          <p:nvPr>
            <p:ph/>
          </p:nvPr>
        </p:nvSpPr>
        <p:spPr>
          <a:xfrm>
            <a:off x="152280" y="1143000"/>
            <a:ext cx="876312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determining whether a location is the nearest location where the necessary brake repairs can be made, the distance to the location is a key factor but should not be considered the determining factor. The distance to a location must be considered in conjunction with the factors and guidance outlined in the two previous slides. In addition, the following safety factors must be considered in order to optimize safety:</a:t>
            </a:r>
            <a:endParaRPr b="0" lang="en-US" sz="2800" spc="-1" strike="noStrike">
              <a:solidFill>
                <a:srgbClr val="000000"/>
              </a:solidFill>
              <a:latin typeface="Times New Roman"/>
            </a:endParaRPr>
          </a:p>
          <a:p>
            <a:pPr lvl="1" marL="623880" indent="-239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fety of the employees responsible for getting the equipment to or from a particular location, and</a:t>
            </a:r>
            <a:endParaRPr b="0" lang="en-US" sz="2800" spc="-1" strike="noStrike">
              <a:solidFill>
                <a:srgbClr val="000000"/>
              </a:solidFill>
              <a:latin typeface="Times New Roman"/>
            </a:endParaRPr>
          </a:p>
          <a:p>
            <a:pPr lvl="1" marL="623880" indent="-239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otential safety hazards involved with moving the equipment in the direction of travel necessary to get the equipment to a particular lo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BA286CA7-DBE2-401A-889F-C50272AA35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ement of defective equipment</a:t>
            </a:r>
            <a:br>
              <a:rPr sz="3600"/>
            </a:br>
            <a:r>
              <a:rPr b="0" lang="en-US" sz="3600" spc="-1" strike="noStrike">
                <a:solidFill>
                  <a:srgbClr val="000000"/>
                </a:solidFill>
                <a:latin typeface="Times New Roman"/>
              </a:rPr>
              <a:t>Designated repair locations</a:t>
            </a:r>
            <a:endParaRPr b="0" lang="en-US" sz="3600" spc="-1" strike="noStrike">
              <a:solidFill>
                <a:srgbClr val="000000"/>
              </a:solidFill>
              <a:latin typeface="Times New Roman"/>
            </a:endParaRPr>
          </a:p>
        </p:txBody>
      </p:sp>
      <p:sp>
        <p:nvSpPr>
          <p:cNvPr id="158"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s may submit a plan establishing designated repair locations where brake system repairs can be made consistent with the guidelines, determinations and factors previously discuss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or alternate plans with respect to designated repair locations will be considered by FRA in accordance with the special approval procedures contained in §232.17.</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04AAC843-0B99-4214-99AD-12F2429E8A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approval procedure</a:t>
            </a:r>
            <a:endParaRPr b="0" lang="en-US" sz="4400" spc="-1" strike="noStrike">
              <a:solidFill>
                <a:srgbClr val="000000"/>
              </a:solidFill>
              <a:latin typeface="Times New Roman"/>
            </a:endParaRPr>
          </a:p>
        </p:txBody>
      </p:sp>
      <p:sp>
        <p:nvSpPr>
          <p:cNvPr id="160" name="PlaceHolder 2"/>
          <p:cNvSpPr>
            <a:spLocks noGrp="1"/>
          </p:cNvSpPr>
          <p:nvPr>
            <p:ph/>
          </p:nvPr>
        </p:nvSpPr>
        <p:spPr>
          <a:xfrm>
            <a:off x="380520" y="144792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ecial approval procedures apply to the following:</a:t>
            </a:r>
            <a:endParaRPr b="0" lang="en-US" sz="32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ated repair locations – special approval plan.</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T alternatives – alternative standard.</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brake systems or major upgrades to existing equipment - special approval of pre-revenue service acceptance and testing pl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0161225E-6826-49DC-8346-DF360BDB73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3045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approval procedure</a:t>
            </a:r>
            <a:br>
              <a:rPr sz="4000"/>
            </a:br>
            <a:r>
              <a:rPr b="0" lang="en-US" sz="3200" spc="-1" strike="noStrike">
                <a:solidFill>
                  <a:srgbClr val="000000"/>
                </a:solidFill>
                <a:latin typeface="Times New Roman"/>
              </a:rPr>
              <a:t>Designated repair locations &amp; SCT alternativ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2" name="PlaceHolder 2"/>
          <p:cNvSpPr>
            <a:spLocks noGrp="1"/>
          </p:cNvSpPr>
          <p:nvPr>
            <p:ph/>
          </p:nvPr>
        </p:nvSpPr>
        <p:spPr>
          <a:xfrm>
            <a:off x="0" y="1295280"/>
            <a:ext cx="876312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formation require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title, address, and telephone number of the primary person to be contacted with regard to review of the petition.</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osed plan pursuant to §232.15(g), or the proposed alternative standard in detail, to be substituted for the particular requirement of this part.</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data or analysis, or both, for FRA to consider in determining whether the plan is consistent with the guidance contained in §232.15(f) and the requirements of this part or whether the alternative standard will provide at least an equivalent level of safety</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ment affirming that the railroad has served a copy of the petition on designated representatives of its employees, together with a list of the names and addresses of the persons serv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23C88427-D728-40C8-AD11-0FDBE8F405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228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approval procedure</a:t>
            </a:r>
            <a:br>
              <a:rPr sz="4000"/>
            </a:br>
            <a:r>
              <a:rPr b="0" lang="en-US" sz="3200" spc="-1" strike="noStrike">
                <a:solidFill>
                  <a:srgbClr val="000000"/>
                </a:solidFill>
                <a:latin typeface="Times New Roman"/>
              </a:rPr>
              <a:t>Pre-revenue service acceptance testing plan</a:t>
            </a:r>
            <a:endParaRPr b="0" lang="en-US" sz="3200" spc="-1" strike="noStrike">
              <a:solidFill>
                <a:srgbClr val="000000"/>
              </a:solidFill>
              <a:latin typeface="Times New Roman"/>
            </a:endParaRPr>
          </a:p>
        </p:txBody>
      </p:sp>
      <p:sp>
        <p:nvSpPr>
          <p:cNvPr id="164"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nformation require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title, address, and telephone number of the primary person to be contacted with regard to review of the petition.</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dentification of each waiver, if any, of FRA or other Federal safety regulations required for the tests or for revenue service operation of the equipment.</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ear statement of the test objectives. One of the principal test objectives shall be to demonstrate that the equipment meets the safety design and performance requirements specified in this part when operated in the environment in which it is to be use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ned schedule for conducting the tests.</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railroad property or facilities to be used to conduct the tests.</a:t>
            </a:r>
            <a:endParaRPr b="0" lang="en-US" sz="2400" spc="-1" strike="noStrike">
              <a:solidFill>
                <a:srgbClr val="000000"/>
              </a:solidFill>
              <a:latin typeface="Times New Roman"/>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DAC71CEF-9133-4AF7-9725-0C9DC5664F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approval procedure</a:t>
            </a:r>
            <a:br>
              <a:rPr sz="4000"/>
            </a:br>
            <a:r>
              <a:rPr b="0" lang="en-US" sz="3200" spc="-1" strike="noStrike">
                <a:solidFill>
                  <a:srgbClr val="000000"/>
                </a:solidFill>
                <a:latin typeface="Times New Roman"/>
              </a:rPr>
              <a:t>Pre-revenue service acceptance testing plan - tests</a:t>
            </a:r>
            <a:endParaRPr b="0" lang="en-US" sz="3200" spc="-1" strike="noStrike">
              <a:solidFill>
                <a:srgbClr val="000000"/>
              </a:solidFill>
              <a:latin typeface="Times New Roman"/>
            </a:endParaRPr>
          </a:p>
        </p:txBody>
      </p:sp>
      <p:sp>
        <p:nvSpPr>
          <p:cNvPr id="166" name="PlaceHolder 2"/>
          <p:cNvSpPr>
            <a:spLocks noGrp="1"/>
          </p:cNvSpPr>
          <p:nvPr>
            <p:ph/>
          </p:nvPr>
        </p:nvSpPr>
        <p:spPr>
          <a:xfrm>
            <a:off x="-304920" y="1371600"/>
            <a:ext cx="9144000" cy="4114800"/>
          </a:xfrm>
          <a:prstGeom prst="rect">
            <a:avLst/>
          </a:prstGeom>
          <a:noFill/>
          <a:ln w="0">
            <a:noFill/>
          </a:ln>
        </p:spPr>
        <p:txBody>
          <a:bodyPr lIns="90000" rIns="90000" tIns="46800" bIns="46800" anchor="t">
            <a:normAutofit fontScale="88000"/>
          </a:bodyPr>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detailed description of how the tests are to be conducted. This description shall include:</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dentification of the equipment to be tested.</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by which the equipment is to be tested.</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iteria to be used to evaluate the equipment's performance.</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ans by which the test results are to be reported to FRA.</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special instrumentation to be used during the tests.</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information or data to be obtained.</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how the information or data obtained is to be analyzed or used.</a:t>
            </a:r>
            <a:endParaRPr b="0" lang="en-US" sz="2400" spc="-1" strike="noStrike">
              <a:solidFill>
                <a:srgbClr val="000000"/>
              </a:solidFill>
              <a:latin typeface="Times New Roman"/>
            </a:endParaRPr>
          </a:p>
          <a:p>
            <a:pPr lvl="2" marL="1005840" indent="-2008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criteria to be used as safety limits during the tes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C1A7FF25-05A6-423D-AF05-ED36115C9D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approval procedure</a:t>
            </a:r>
            <a:br>
              <a:rPr sz="4000"/>
            </a:br>
            <a:r>
              <a:rPr b="0" lang="en-US" sz="3200" spc="-1" strike="noStrike">
                <a:solidFill>
                  <a:srgbClr val="000000"/>
                </a:solidFill>
                <a:latin typeface="Times New Roman"/>
              </a:rPr>
              <a:t>Pre-revenue service acceptance testing plan - tests</a:t>
            </a:r>
            <a:endParaRPr b="0" lang="en-US" sz="3200" spc="-1" strike="noStrike">
              <a:solidFill>
                <a:srgbClr val="000000"/>
              </a:solidFill>
              <a:latin typeface="Times New Roman"/>
            </a:endParaRPr>
          </a:p>
        </p:txBody>
      </p:sp>
      <p:sp>
        <p:nvSpPr>
          <p:cNvPr id="168" name="PlaceHolder 2"/>
          <p:cNvSpPr>
            <a:spLocks noGrp="1"/>
          </p:cNvSpPr>
          <p:nvPr>
            <p:ph/>
          </p:nvPr>
        </p:nvSpPr>
        <p:spPr>
          <a:xfrm>
            <a:off x="-360" y="1219320"/>
            <a:ext cx="8991720" cy="4114800"/>
          </a:xfrm>
          <a:prstGeom prst="rect">
            <a:avLst/>
          </a:prstGeom>
          <a:noFill/>
          <a:ln w="0">
            <a:noFill/>
          </a:ln>
        </p:spPr>
        <p:txBody>
          <a:bodyPr lIns="90000" rIns="90000" tIns="46800" bIns="46800" anchor="t">
            <a:normAutofit fontScale="86000"/>
          </a:bodyPr>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the criteria to be used to measure or determine the success or failure of the tests. If acceptance is to be based on extrapolation of less than full level testing results, the analysis to be done to justify the validity of the extrapolation shall be describe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ny special safety precautions to be observed during the testing.</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ritten set of standard operating procedures to be used to ensure that the testing is done safely.</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control procedures to ensure that the inspection, testing, and maintenance procedures are followed.</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 to be used for the revenue service operation of the equipment</a:t>
            </a:r>
            <a:endParaRPr b="0" lang="en-US" sz="2400" spc="-1" strike="noStrike">
              <a:solidFill>
                <a:srgbClr val="000000"/>
              </a:solidFill>
              <a:latin typeface="Times New Roman"/>
            </a:endParaRPr>
          </a:p>
          <a:p>
            <a:pPr lvl="1" marL="639000" indent="-245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scription of all testing of the equipment that has previously been performed, if an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03DC67E1-7D85-47BE-9570-8D29B994E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any railroads exempt ?</a:t>
            </a:r>
            <a:endParaRPr b="0" lang="en-US" sz="3600" spc="-1" strike="noStrike">
              <a:solidFill>
                <a:srgbClr val="000000"/>
              </a:solidFill>
              <a:latin typeface="Times New Roman"/>
            </a:endParaRPr>
          </a:p>
        </p:txBody>
      </p:sp>
      <p:sp>
        <p:nvSpPr>
          <p:cNvPr id="61" name="PlaceHolder 2"/>
          <p:cNvSpPr>
            <a:spLocks noGrp="1"/>
          </p:cNvSpPr>
          <p:nvPr>
            <p:ph/>
          </p:nvPr>
        </p:nvSpPr>
        <p:spPr>
          <a:xfrm>
            <a:off x="228240" y="1371600"/>
            <a:ext cx="8915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 railroa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transit operations not connected to the general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ight and other non-passenger trains of four wheel coal c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ight and other non-passenger trains of eight wheel logging cars where height from top of rail to C/L of coupler is not more than 2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comotive used to haul only logging ca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nger trains (see next slid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rist, scenic, historic, or excursion operations, whether on or off the general system (see next slid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5C7A2C78-039C-4D07-9A24-1C5BB3DAD0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approval procedure</a:t>
            </a:r>
            <a:br>
              <a:rPr sz="4000"/>
            </a:br>
            <a:r>
              <a:rPr b="0" lang="en-US" sz="3600" spc="-1" strike="noStrike">
                <a:solidFill>
                  <a:srgbClr val="000000"/>
                </a:solidFill>
                <a:latin typeface="Times New Roman"/>
              </a:rPr>
              <a:t>Service of documents </a:t>
            </a:r>
            <a:endParaRPr b="0" lang="en-US" sz="3600" spc="-1" strike="noStrike">
              <a:solidFill>
                <a:srgbClr val="000000"/>
              </a:solidFill>
              <a:latin typeface="Times New Roman"/>
            </a:endParaRPr>
          </a:p>
        </p:txBody>
      </p:sp>
      <p:sp>
        <p:nvSpPr>
          <p:cNvPr id="170" name="PlaceHolder 2"/>
          <p:cNvSpPr>
            <a:spLocks noGrp="1"/>
          </p:cNvSpPr>
          <p:nvPr>
            <p:ph/>
          </p:nvPr>
        </p:nvSpPr>
        <p:spPr>
          <a:xfrm>
            <a:off x="-360" y="1219320"/>
            <a:ext cx="8839080" cy="4114800"/>
          </a:xfrm>
          <a:prstGeom prst="rect">
            <a:avLst/>
          </a:prstGeom>
          <a:noFill/>
          <a:ln w="0">
            <a:noFill/>
          </a:ln>
        </p:spPr>
        <p:txBody>
          <a:bodyPr lIns="90000" rIns="90000" tIns="46800" bIns="46800"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All petitions filed under </a:t>
            </a:r>
            <a:r>
              <a:rPr b="0" lang="en-US" sz="2000" spc="-1" strike="noStrike">
                <a:solidFill>
                  <a:srgbClr val="000000"/>
                </a:solidFill>
                <a:latin typeface="Times New Roman"/>
                <a:ea typeface="Times New Roman"/>
              </a:rPr>
              <a:t>§232.17 shall be submitted in triplicate to FRA’s Associate Administrator for Safety.  In addition, the following groups shall also be provided with a copy of the petition filed under §232.17: </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ated representatives of the employees of the railroad submitting a plan pursuant to § 232.15(g) or designated representatives of the employees responsible for the equipment's operation, inspection, testing, and maintenance. </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y organizations or bodies that either issued the standard incorporated in the section(s) of the rule to which the special approval pertains or issued the alternative standard that is proposed in the petition.</a:t>
            </a:r>
            <a:endParaRPr b="0" lang="en-US" sz="2000" spc="-1" strike="noStrike">
              <a:solidFill>
                <a:srgbClr val="000000"/>
              </a:solidFill>
              <a:latin typeface="Times New Roman"/>
            </a:endParaRPr>
          </a:p>
          <a:p>
            <a:pPr lvl="1" marL="616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1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y other person who has filed with FRA a current statement of interest in reviewing special approvals under the particular requirement of this part at least 30 days but not more than 5 years prior to the filing of the petition. If filed, a statement of interest shall be filed with FRA's Associate Administrator for Safety and shall reference the specific section(s) of this part in which the person has an interest.</a:t>
            </a:r>
            <a:endParaRPr b="0" lang="en-US" sz="2000" spc="-1" strike="noStrike">
              <a:solidFill>
                <a:srgbClr val="000000"/>
              </a:solidFill>
              <a:latin typeface="Times New Roman"/>
            </a:endParaRPr>
          </a:p>
          <a:p>
            <a:pPr lvl="1" marL="61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87EDACC1-99B3-4400-82E8-BBE206627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ailability of record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 records associated with Part 232 shall be made available to FRA upon reques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18013C0C-FCE6-498C-BC3C-837388DC3F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Module 1</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Module 1</a:t>
            </a:r>
          </a:p>
        </p:txBody>
      </p:sp>
      <p:sp>
        <p:nvSpPr>
          <p:cNvPr id="4" name="PlaceHolder 3"/>
          <p:cNvSpPr>
            <a:spLocks noGrp="1"/>
          </p:cNvSpPr>
          <p:nvPr>
            <p:ph type="sldNum" idx="3"/>
          </p:nvPr>
        </p:nvSpPr>
        <p:spPr/>
        <p:txBody>
          <a:bodyPr/>
          <a:p>
            <a:fld id="{3A29CDF9-1C11-45A5-8200-161C1CDADB42}"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tions continued</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ity, commuter, short haul, long distance and other passenger trains operating over the general system must comply with Part 238 regulation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t, scenic, historic, or excursion operations, whether on or off the general system must comply with the former Power Brake Regulations that now reside under Appendix B to Part 232.</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te: All passenger, freight, tourist, scenic, historic or excursion trains operating over the general system must comply with End-of-Train Device requirements contained in Subpart E of Part 232.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2F1491A3-49DC-4446-B52E-71F3A60D5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Exemptions</a:t>
            </a:r>
            <a:br>
              <a:rPr sz="4400"/>
            </a:br>
            <a:r>
              <a:rPr b="0" lang="en-US" sz="4400" spc="-1" strike="noStrike">
                <a:solidFill>
                  <a:srgbClr val="000000"/>
                </a:solidFill>
                <a:latin typeface="Times New Roman"/>
              </a:rPr>
              <a:t>ICC Order 13528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e cars, locomotive cranes, steam shovels, pile drivers and machines of similar construction, and maintenance machines built prior to September 21, 1945.</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rt, industrial, and other cars not owned by a railroad which are not to be used in service, except for movement as shipments on their own wheels to given destinations. Such cars shall be properly identified by a card attached to each side of the car, signed by the shipper, stating that such movement is being made under the authority of this paragraph.</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al and other than railroad-owned cars which are not to be used in service except for movement within the limits of a single switching district (i.e., within the limits of an industrial facility).</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rrow-gage cars.</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s used exclusively in switching operations and not used in train movements within the meaning of the Federal safety appliance law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4656B6E-0738-45B2-B3CA-44864E643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re are several definitions listed in this rule, we will discuss only those definitions that may impact your understanding of what we’ll be attempting to impart to you this week.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odule 1</a:t>
            </a:r>
          </a:p>
        </p:txBody>
      </p:sp>
      <p:sp>
        <p:nvSpPr>
          <p:cNvPr id="5" name="PlaceHolder 4"/>
          <p:cNvSpPr>
            <a:spLocks noGrp="1"/>
          </p:cNvSpPr>
          <p:nvPr>
            <p:ph type="sldNum" idx="3"/>
          </p:nvPr>
        </p:nvSpPr>
        <p:spPr/>
        <p:txBody>
          <a:bodyPr/>
          <a:p>
            <a:fld id="{4FDB76F0-C09E-4717-99EB-97959C9C9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14:34:28Z</dcterms:created>
  <dc:creator>RCastigl</dc:creator>
  <dc:description/>
  <dc:language>en-US</dc:language>
  <cp:lastModifiedBy>RCastigl</cp:lastModifiedBy>
  <dcterms:modified xsi:type="dcterms:W3CDTF">2002-11-19T20:02:04Z</dcterms:modified>
  <cp:revision>88</cp:revision>
  <dc:subject/>
  <dc:title>Brake System Safety Standards for Freight</dc:title>
</cp:coreProperties>
</file>