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4E6C-4333-4683-A1C3-07A10A7C6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llet one rule text</a:t>
            </a:r>
            <a:r>
              <a:rPr b="0" lang="en-US" sz="1200" spc="-1" strike="noStrike">
                <a:solidFill>
                  <a:srgbClr val="000000"/>
                </a:solidFill>
                <a:latin typeface="Times New Roman"/>
              </a:rPr>
              <a:t> : The primary brake system of a train shall be capable of stopping the train with a service application from its maximum operating speed within the signal spacing existing on the track over which the train is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f the integrity of the train line of a train brake system is broken, the train shall be stopped. If a train line uses other than solely pneumatic technology, the integrity of the train line shall be monitored by the brake contro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 train brake system shall respond as intended to signals from the train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llet four rule text:</a:t>
            </a:r>
            <a:r>
              <a:rPr b="0" lang="en-US" sz="1200" spc="-1" strike="noStrike">
                <a:solidFill>
                  <a:srgbClr val="000000"/>
                </a:solidFill>
                <a:latin typeface="Times New Roman"/>
              </a:rPr>
              <a:t>  All trains shall be equipped with an emergency application feature that produces an irretrievable stop, using a brake rate consistent with prevailing adhesion, train safety, and brake system thermal capacity. An emergency application shall be available at all times, and shall be initiated by an unintentional parting of the train line or loss of train brake communic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omotives                                                                         P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inimum brake pipe air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d Service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Service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inimum differential between brake pipe and main reservoir air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ures, with brake valve in running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afety valve for straight air brake                                             30-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afety valve for LT, ET, No. 8-EL, No. 14 El, No. 6-DS, No. 6-BL and            30-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6-SL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Safety valve for HSC and No. 24-RL equipment                                    3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Reducing valve for independent or straight air brake                            30-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Self-lapping portion for electro-pneumatic brake (minimum full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Self-lapping portion for independent air brake (full application pressure)      30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Reducing valve for high-speed brake (minimum)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54A1E-7BF1-429B-86C4-CE4F1D572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497B1-D7A3-495E-B1F5-39CC29629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661E8-687A-405A-9194-5E5191732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1DD67-B764-4D6C-AE41-3E8A51D99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4D4A2-DEE3-4BD7-B6CD-818B565E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5663-C3F6-4A5F-9A55-FBA12CA3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04D5-FC90-46F1-AC6A-BE683126F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F843-3AD2-4D2D-A009-1648FC028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4DF1D-C8FB-4833-BABC-0973E4FE0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40A8D-ADF0-46A8-B719-A45A1F5F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B2FB-5C62-473E-B7E2-A83E31E74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E7F7-6F0B-4B2D-9A0F-601E9EE42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D61F-7CF2-4209-981A-F1F1D0DEA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System Safety Standards for Freigh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B – General Requirement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2</a:t>
            </a:r>
            <a:endParaRPr b="0" lang="en-US" sz="3200" spc="-1" strike="noStrike">
              <a:solidFill>
                <a:srgbClr val="000000"/>
              </a:solidFill>
              <a:latin typeface="Times New Roman"/>
            </a:endParaRPr>
          </a:p>
        </p:txBody>
      </p:sp>
      <p:pic>
        <p:nvPicPr>
          <p:cNvPr id="50" name="AG00617_" descr=""/>
          <p:cNvPicPr/>
          <p:nvPr/>
        </p:nvPicPr>
        <p:blipFill>
          <a:blip r:embed="rId1"/>
          <a:stretch/>
        </p:blipFill>
        <p:spPr>
          <a:xfrm>
            <a:off x="3581280" y="533520"/>
            <a:ext cx="2667240" cy="13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requirements brake systems</a:t>
            </a:r>
            <a:br>
              <a:rPr sz="3200"/>
            </a:br>
            <a:r>
              <a:rPr b="0" lang="en-US" sz="3200" spc="-1" strike="noStrike">
                <a:solidFill>
                  <a:srgbClr val="000000"/>
                </a:solidFill>
                <a:latin typeface="Times New Roman"/>
              </a:rPr>
              <a:t>Air pressures</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e char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232.103, carried over locomotive section from previous rule, but eliminated car sec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ded two new entries specifying  BP of 90 psi for road service and 60 psi for switch service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5ED4C9A7-C48A-49E6-9681-7FEB55161F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requirements for locomotives</a:t>
            </a:r>
            <a:br>
              <a:rPr sz="4400"/>
            </a:br>
            <a:r>
              <a:rPr b="0" lang="en-US" sz="4400" spc="-1" strike="noStrike">
                <a:solidFill>
                  <a:srgbClr val="000000"/>
                </a:solidFill>
                <a:latin typeface="Times New Roman"/>
              </a:rPr>
              <a:t>Hand brakes</a:t>
            </a:r>
            <a:endParaRPr b="0" lang="en-US" sz="4400" spc="-1" strike="noStrike">
              <a:solidFill>
                <a:srgbClr val="000000"/>
              </a:solidFill>
              <a:latin typeface="Times New Roman"/>
            </a:endParaRPr>
          </a:p>
        </p:txBody>
      </p:sp>
      <p:sp>
        <p:nvSpPr>
          <p:cNvPr id="70" name="PlaceHolder 2"/>
          <p:cNvSpPr>
            <a:spLocks noGrp="1"/>
          </p:cNvSpPr>
          <p:nvPr>
            <p:ph/>
          </p:nvPr>
        </p:nvSpPr>
        <p:spPr>
          <a:xfrm>
            <a:off x="152280" y="1523880"/>
            <a:ext cx="88394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comotives ordered on or after 8/1/02 or placed in service for the first time on or after 4/1/04 shall be equipped with a hand or parking brake that is:</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le of application or activation by hand.</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le of release by hand.</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le of holding the unit on a three percent grade.</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spection shall be made of parts, connections, etc. as often as necessary but not less frequently than every 368 days.  Inspection date shall be entered on 49A or stencil date on HB.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9EF0914D-25F9-4C61-BE22-FDA14D45D9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requirements for locomotives</a:t>
            </a:r>
            <a:br>
              <a:rPr sz="4400"/>
            </a:br>
            <a:r>
              <a:rPr b="0" lang="en-US" sz="4400" spc="-1" strike="noStrike">
                <a:solidFill>
                  <a:srgbClr val="000000"/>
                </a:solidFill>
                <a:latin typeface="Times New Roman"/>
              </a:rPr>
              <a:t>Leakage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izing leakage shall be zero, unless the system is capable of maintaining the set pressure at any service application with the brakes control valve in the freight posi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izing leakage detected on trains en route may proceed to nearest forward location where the equalizing-reservoir leakage can be correct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4B5A48E0-F876-4E0D-B7AE-D1A34F612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requirements for locomotives</a:t>
            </a:r>
            <a:br>
              <a:rPr sz="4400"/>
            </a:br>
            <a:r>
              <a:rPr b="0" lang="en-US" sz="4400" spc="-1" strike="noStrike">
                <a:solidFill>
                  <a:srgbClr val="000000"/>
                </a:solidFill>
                <a:latin typeface="Times New Roman"/>
              </a:rPr>
              <a:t>Miscellaneo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 valve braking is prohibi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ssenger position brake control stand shall be used only if the trailing equipment is designed for graduated brake release or if equalizing reservoir leakage occurs en route and its use is necessary to safely control the movement of the train until it reaches the next forward location where the reservoir leakage can be correc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aking charge of a locomotive or locomotive consist, an engineer must know that brakes are in operative cond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845999A0-8835-457C-AD48-3EE9E92F6B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 source requirements </a:t>
            </a:r>
            <a:br>
              <a:rPr sz="3200"/>
            </a:br>
            <a:r>
              <a:rPr b="0" lang="en-US" sz="3200" spc="-1" strike="noStrike">
                <a:solidFill>
                  <a:srgbClr val="000000"/>
                </a:solidFill>
                <a:latin typeface="Times New Roman"/>
              </a:rPr>
              <a:t>Monitoring plans for yard air sources</a:t>
            </a:r>
            <a:endParaRPr b="0" lang="en-US" sz="3200" spc="-1" strike="noStrike">
              <a:solidFill>
                <a:srgbClr val="000000"/>
              </a:solidFill>
              <a:latin typeface="Times New Roman"/>
            </a:endParaRPr>
          </a:p>
        </p:txBody>
      </p:sp>
      <p:sp>
        <p:nvSpPr>
          <p:cNvPr id="76"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ilroad shall adopt and comply with a written plan to monitor all yard air sources, other than locomotives, to determine that:</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operate as intended.</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introduce contaminants into the brake system of freight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16864580-A920-4357-BE5A-EAE629ADB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04560"/>
            <a:ext cx="9144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source requirements</a:t>
            </a:r>
            <a:br>
              <a:rPr sz="3600"/>
            </a:br>
            <a:r>
              <a:rPr b="0" lang="en-US" sz="3600" spc="-1" strike="noStrike">
                <a:solidFill>
                  <a:srgbClr val="000000"/>
                </a:solidFill>
                <a:latin typeface="Times New Roman"/>
              </a:rPr>
              <a:t>Plan details</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plan shall include requirements 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pect each yard air source at least two times per calendar year, no less than five months apart, to determine it operates as intended and does not introduce contaminants into the brake system of the equipment it ser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yard air sources found not to be operating as intended or found introducing contaminants into the brake system of the equipment it ser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 or take other remedial action regarding any defective yard air sour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6D716C22-79DA-48B9-983A-535B60544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ir source requirements</a:t>
            </a:r>
            <a:br>
              <a:rPr sz="4000"/>
            </a:br>
            <a:r>
              <a:rPr b="0" lang="en-US" sz="4000" spc="-1" strike="noStrike">
                <a:solidFill>
                  <a:srgbClr val="000000"/>
                </a:solidFill>
                <a:latin typeface="Times New Roman"/>
              </a:rPr>
              <a:t>Plan record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ilroads shall maintain records of the information and actions required by the previous slide. These records shall be maintained for a period of at least one year from the date of creation and may be maintained either electronically or in writ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2C7B8D1A-A52C-4881-92D4-E8CA0A8B58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source requirements</a:t>
            </a:r>
            <a:br>
              <a:rPr sz="3600"/>
            </a:br>
            <a:r>
              <a:rPr b="0" lang="en-US" sz="3600" spc="-1" strike="noStrike">
                <a:solidFill>
                  <a:srgbClr val="000000"/>
                </a:solidFill>
                <a:latin typeface="Times New Roman"/>
              </a:rPr>
              <a:t>Additional requirements and/or prohibition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ensation shall be blown out from  source, (yard air or locomotives), before connecting to train.</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ing chemicals shall not be introduced into the brake pipe or brake system.</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rd air reservoirs in use shall be drained daily (automatic drains ok provided they operate).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69907A53-FF47-487D-94B3-5E433213D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d weather requirement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ailroads shall adopt and comply with detailed written operating procedures tailored to the equipment and territory of that railroad to cover safe train operations during cold weath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52FF559C-D1AF-47AF-A84E-C36D63A8F2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brake requirements</a:t>
            </a:r>
            <a:br>
              <a:rPr sz="3600"/>
            </a:br>
            <a:r>
              <a:rPr b="0" lang="en-US" sz="3600" spc="-1" strike="noStrike">
                <a:solidFill>
                  <a:srgbClr val="000000"/>
                </a:solidFill>
                <a:latin typeface="Times New Roman"/>
              </a:rPr>
              <a:t>Notification &amp; information</a:t>
            </a:r>
            <a:endParaRPr b="0" lang="en-US" sz="3600" spc="-1" strike="noStrike">
              <a:solidFill>
                <a:srgbClr val="000000"/>
              </a:solidFill>
              <a:latin typeface="Times New Roman"/>
            </a:endParaRPr>
          </a:p>
        </p:txBody>
      </p:sp>
      <p:sp>
        <p:nvSpPr>
          <p:cNvPr id="86" name="PlaceHolder 2"/>
          <p:cNvSpPr>
            <a:spLocks noGrp="1"/>
          </p:cNvSpPr>
          <p:nvPr>
            <p:ph/>
          </p:nvPr>
        </p:nvSpPr>
        <p:spPr>
          <a:xfrm>
            <a:off x="304560" y="1295280"/>
            <a:ext cx="883908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omotive engineer shall be informed of the operational status of the dynamic brakes on all locomotive units in the consist at the initial terminal for a train and at other locations where a locomotive engineer first begins operation of a train.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formation required may be provided to the locomotive engineer by any means determined to be appropriate by the railroad; however, a written or electronic record of the information shall be maintained in the cab of the controlling locomotive.</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formation above not required if lead locomotive consist is equipped with self test and status feature (see slide 23).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A9402EEF-28D0-4BF1-9F18-05F9BE8EB7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Objectiv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FRA Brake System Safety Standards when inspecting freight equi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deviations from the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if a monitoring plan for yard air sources is in compliance with Federal regulations based on a given case stud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8AB26176-59F8-45D6-B87D-3DC9AD745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rake requirements</a:t>
            </a:r>
            <a:br>
              <a:rPr sz="4000"/>
            </a:br>
            <a:r>
              <a:rPr b="0" lang="en-US" sz="4000" spc="-1" strike="noStrike">
                <a:solidFill>
                  <a:srgbClr val="000000"/>
                </a:solidFill>
                <a:latin typeface="Times New Roman"/>
              </a:rPr>
              <a:t>Remedial a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operative dynamic brakes shall be repaired within 30 calendar days of becoming inoperative or at the locomotive's next periodic inspection,  whichever occurs firs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locomotive consist is intended to have its dynamic brakes used while in transit, a locomotive with inoperative or deactivated dynamic brakes or a locomotive not equipped with dynamic brakes shall not be placed in the controlling (lead) position of a consist unless the locomotive has the capability of:</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ing the dynamic braking effort in trailing locomotives in the consist that are so equipped.</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ing to the locomotive engineer the deceleration rate of the train or the total train dynamic brake retarding force.</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72F6FF1A-A70F-4F5E-A182-B73F5B6747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rake requirements</a:t>
            </a:r>
            <a:br>
              <a:rPr sz="4000"/>
            </a:br>
            <a:r>
              <a:rPr b="0" lang="en-US" sz="4000" spc="-1" strike="noStrike">
                <a:solidFill>
                  <a:srgbClr val="000000"/>
                </a:solidFill>
                <a:latin typeface="Times New Roman"/>
              </a:rPr>
              <a:t>Tagging defective equip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0"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comotive with inoperative dynamic brakes shall have a tag bearing the words "inoperative dynamic brake" securely attached and displayed in a conspicuous location in the cab of the locomotive. </a:t>
            </a:r>
            <a:endParaRPr b="0" lang="en-US" sz="28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tag shall contain the following information:</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omotive number.</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of the discovering railroad.</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tion and date where condition was discovered.</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ature of the person discovering the condition.</a:t>
            </a:r>
            <a:endParaRPr b="0" lang="en-US" sz="24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lectronic or written record of repairs made to a locomotive's dynamic brakes shall be retained for 92 day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601F2921-6FC2-4342-A8BC-D29EC0EC81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rake requirements</a:t>
            </a:r>
            <a:br>
              <a:rPr sz="4000"/>
            </a:br>
            <a:r>
              <a:rPr b="0" lang="en-US" sz="4000" spc="-1" strike="noStrike">
                <a:solidFill>
                  <a:srgbClr val="000000"/>
                </a:solidFill>
                <a:latin typeface="Times New Roman"/>
              </a:rPr>
              <a:t>Deactivation</a:t>
            </a:r>
            <a:endParaRPr b="0" lang="en-US" sz="4000" spc="-1" strike="noStrike">
              <a:solidFill>
                <a:srgbClr val="000000"/>
              </a:solidFill>
              <a:latin typeface="Times New Roman"/>
            </a:endParaRPr>
          </a:p>
        </p:txBody>
      </p:sp>
      <p:sp>
        <p:nvSpPr>
          <p:cNvPr id="92" name="PlaceHolder 2"/>
          <p:cNvSpPr>
            <a:spLocks noGrp="1"/>
          </p:cNvSpPr>
          <p:nvPr>
            <p:ph/>
          </p:nvPr>
        </p:nvSpPr>
        <p:spPr>
          <a:xfrm>
            <a:off x="-360" y="1523880"/>
            <a:ext cx="89917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 railroad may elect to declare the dynamic brakes on a locomotive deactivated without removing the dynamic brake components from the locomotive, only if all of the following conditions are m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omotive is clearly marked with the words "dynamic brake deactivated" in a conspicuous location in the cab of the locomo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ilroad has taken appropriate action to ensure the deactivated locomotive is incapable of utilizing dynamic brake effort to retard or control train spe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421576B3-B8E4-4771-BF99-2E6F2D09F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rake requirements</a:t>
            </a:r>
            <a:br>
              <a:rPr sz="4000"/>
            </a:br>
            <a:r>
              <a:rPr b="0" lang="en-US" sz="4000" spc="-1" strike="noStrike">
                <a:solidFill>
                  <a:srgbClr val="000000"/>
                </a:solidFill>
                <a:latin typeface="Times New Roman"/>
              </a:rPr>
              <a:t>New locomotives</a:t>
            </a:r>
            <a:endParaRPr b="0" lang="en-US" sz="4000" spc="-1" strike="noStrike">
              <a:solidFill>
                <a:srgbClr val="000000"/>
              </a:solidFill>
              <a:latin typeface="Times New Roman"/>
            </a:endParaRPr>
          </a:p>
        </p:txBody>
      </p:sp>
      <p:sp>
        <p:nvSpPr>
          <p:cNvPr id="94" name="PlaceHolder 2"/>
          <p:cNvSpPr>
            <a:spLocks noGrp="1"/>
          </p:cNvSpPr>
          <p:nvPr>
            <p:ph/>
          </p:nvPr>
        </p:nvSpPr>
        <p:spPr>
          <a:xfrm>
            <a:off x="-360" y="1447920"/>
            <a:ext cx="8991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ll locomotives equipped with dynamic brakes and ordered on or after April 1, 2006, or placed in service for the first time on or after 10//07, shall be designed to:</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an electrical integrity test of the dynamic brake to determine if electrical current is being received at the grids on the system.</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in real-time in the cab of the controlling locomotive the total train dynamic brake retarding force available in the trai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CD444DBA-D91D-400C-851D-24A724A80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rake requirements</a:t>
            </a:r>
            <a:br>
              <a:rPr sz="4000"/>
            </a:br>
            <a:r>
              <a:rPr b="0" lang="en-US" sz="4000" spc="-1" strike="noStrike">
                <a:solidFill>
                  <a:srgbClr val="000000"/>
                </a:solidFill>
                <a:latin typeface="Times New Roman"/>
              </a:rPr>
              <a:t>Rebuilt locomotives</a:t>
            </a:r>
            <a:endParaRPr b="0" lang="en-US" sz="4000" spc="-1" strike="noStrike">
              <a:solidFill>
                <a:srgbClr val="000000"/>
              </a:solidFill>
              <a:latin typeface="Times New Roman"/>
            </a:endParaRPr>
          </a:p>
        </p:txBody>
      </p:sp>
      <p:sp>
        <p:nvSpPr>
          <p:cNvPr id="96" name="PlaceHolder 2"/>
          <p:cNvSpPr>
            <a:spLocks noGrp="1"/>
          </p:cNvSpPr>
          <p:nvPr>
            <p:ph/>
          </p:nvPr>
        </p:nvSpPr>
        <p:spPr>
          <a:xfrm>
            <a:off x="-360" y="1676520"/>
            <a:ext cx="89917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Rebuilt locomotives equipped with dynamic brakes and placed in service on or after 4/1/04, shall be designed t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an electrical integrity test of the dynamic brake to determine if electrical current is being received at the grids on the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either the train deceleration rate or in real-time in the cab of the controlling locomotive the total train dynamic brake retarding force available in the train.</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8ECD04DC-AC83-4825-989B-F6669FD41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ynamic brake requirements</a:t>
            </a:r>
            <a:br>
              <a:rPr sz="4000"/>
            </a:br>
            <a:r>
              <a:rPr b="0" lang="en-US" sz="4000" spc="-1" strike="noStrike">
                <a:solidFill>
                  <a:srgbClr val="000000"/>
                </a:solidFill>
                <a:latin typeface="Times New Roman"/>
              </a:rPr>
              <a:t>Operating procedures</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railroad operating a train with a brake system that includes dynamic brakes shall adopt and comply with written operating rules governing safe train handling procedures using these dynamic brakes under all operating conditions, which shall be tailored to the specific equipment and territory of the railro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926F2CD0-3464-46AF-B4F3-3E214AC491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brake requirements</a:t>
            </a:r>
            <a:br>
              <a:rPr sz="3200"/>
            </a:br>
            <a:r>
              <a:rPr b="0" lang="en-US" sz="3200" spc="-1" strike="noStrike">
                <a:solidFill>
                  <a:srgbClr val="000000"/>
                </a:solidFill>
                <a:latin typeface="Times New Roman"/>
              </a:rPr>
              <a:t>Operating procedure details</a:t>
            </a:r>
            <a:endParaRPr b="0" lang="en-US" sz="3200" spc="-1" strike="noStrike">
              <a:solidFill>
                <a:srgbClr val="000000"/>
              </a:solidFill>
              <a:latin typeface="Times New Roman"/>
            </a:endParaRPr>
          </a:p>
        </p:txBody>
      </p:sp>
      <p:sp>
        <p:nvSpPr>
          <p:cNvPr id="100" name="PlaceHolder 2"/>
          <p:cNvSpPr>
            <a:spLocks noGrp="1"/>
          </p:cNvSpPr>
          <p:nvPr>
            <p:ph/>
          </p:nvPr>
        </p:nvSpPr>
        <p:spPr>
          <a:xfrm>
            <a:off x="152280" y="1143000"/>
            <a:ext cx="8763120" cy="41148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ailroad's operating rules shall:</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the friction brakes are sufficient by themselves, without the aid of dynamic brakes, to stop the train safely under all operating condition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a "miles-per-hour-overspeed-stop" rule. At a minimum, this rule shall require that any train when descending a section of track with an average grade of one percent or greater over a distance of three continuous miles shall be immediately brought to a stop, by an emergency brake application if necessary, when the train's speed exceeds the maximum authorized speed for that train by more than 5 miles per hour. A railroad shall reduce the 5-miles-per-hour-overspeed-stop restriction if validated research indicates the need for such a reduction. A railroad may increase the 5-miles-per-hour-overspeed restriction only with approval of FRA and based upon verifiable data and researc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3D12174F-FB05-419E-9317-473ABD6687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brake requirements</a:t>
            </a:r>
            <a:br>
              <a:rPr sz="3600"/>
            </a:br>
            <a:r>
              <a:rPr b="0" lang="en-US" sz="3600" spc="-1" strike="noStrike">
                <a:solidFill>
                  <a:srgbClr val="000000"/>
                </a:solidFill>
                <a:latin typeface="Times New Roman"/>
              </a:rPr>
              <a:t>Part 240 implications</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ilroads operating a train with a brake system that includes dynamic brakes shall adopt and comply with specific knowledge, skill, and ability criteria to ensure that its locomotive engineers are fully trained in the operating rules referred to in the previous two slides. The railroad shall incorporate such criteria into its locomotive engineer certification program pursuant to Part 240 of this chapt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721B4CA2-E633-465C-98BB-9AE942F8F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handling inform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ilroads shall adopt and comply with written procedures to ensure that a train crew employed by the railroad is given accurate information on the condition of the train brake system and train factors affecting brake system performance and testing when the crew takes over responsibility for the train. The information required by this paragraph may be provided to the locomotive engineer by any means determined appropriate by the railroad; however, a written or electronic record of the information shall be maintained in the cab of the controlling locomotiv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AFB59AA2-E49A-47E9-937C-DCF9C3F13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in handling information</a:t>
            </a:r>
            <a:br>
              <a:rPr sz="4000"/>
            </a:br>
            <a:r>
              <a:rPr b="0" lang="en-US" sz="4000" spc="-1" strike="noStrike">
                <a:solidFill>
                  <a:srgbClr val="000000"/>
                </a:solidFill>
                <a:latin typeface="Times New Roman"/>
              </a:rPr>
              <a:t>Consists &amp; train profile</a:t>
            </a:r>
            <a:endParaRPr b="0" lang="en-US" sz="4000" spc="-1" strike="noStrike">
              <a:solidFill>
                <a:srgbClr val="000000"/>
              </a:solidFill>
              <a:latin typeface="Times New Roman"/>
            </a:endParaRPr>
          </a:p>
        </p:txBody>
      </p:sp>
      <p:sp>
        <p:nvSpPr>
          <p:cNvPr id="106" name="PlaceHolder 2"/>
          <p:cNvSpPr>
            <a:spLocks noGrp="1"/>
          </p:cNvSpPr>
          <p:nvPr>
            <p:ph/>
          </p:nvPr>
        </p:nvSpPr>
        <p:spPr>
          <a:xfrm>
            <a:off x="-360" y="1371600"/>
            <a:ext cx="899172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train crew taking charge of a train be informed of:</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weight and length of the train, based on the best information available to the railroa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special weight distribution that would require special train handling procedur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and location of cars with cut-out or otherwise inoperative brakes and the location where they will be repaire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lass I or Class IA brake test is required prior to the next crew change point, the location at which that test shall be performe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rain brake system problems encountered by the previous crew of the trai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D24F2FC0-9FEE-4A29-A688-6DB953856E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 B</a:t>
            </a:r>
            <a:endParaRPr b="0" lang="en-US" sz="4400" spc="-1" strike="noStrike">
              <a:solidFill>
                <a:srgbClr val="000000"/>
              </a:solidFill>
              <a:latin typeface="Times New Roman"/>
            </a:endParaRPr>
          </a:p>
        </p:txBody>
      </p:sp>
      <p:sp>
        <p:nvSpPr>
          <p:cNvPr id="5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 232.10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equirements for all train brake systems – 232.10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equirements for locomotives 232.1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source requirements and cold weather operations – 232.10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brake requirements – 232.10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 handling information – 232.11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3DC14F22-C4FF-47AB-BB7F-6B169F4EF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 2</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Module 2</a:t>
            </a:r>
          </a:p>
        </p:txBody>
      </p:sp>
      <p:sp>
        <p:nvSpPr>
          <p:cNvPr id="4" name="PlaceHolder 3"/>
          <p:cNvSpPr>
            <a:spLocks noGrp="1"/>
          </p:cNvSpPr>
          <p:nvPr>
            <p:ph type="sldNum" idx="3"/>
          </p:nvPr>
        </p:nvSpPr>
        <p:spPr/>
        <p:txBody>
          <a:bodyPr/>
          <a:p>
            <a:fld id="{2CDC2282-10EA-4E41-8C5A-E39B75335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requirements brake systems</a:t>
            </a:r>
            <a:endParaRPr b="0" lang="en-US" sz="4400" spc="-1" strike="noStrike">
              <a:solidFill>
                <a:srgbClr val="000000"/>
              </a:solidFill>
              <a:latin typeface="Times New Roman"/>
            </a:endParaRPr>
          </a:p>
        </p:txBody>
      </p:sp>
      <p:sp>
        <p:nvSpPr>
          <p:cNvPr id="56" name="PlaceHolder 2"/>
          <p:cNvSpPr>
            <a:spLocks noGrp="1"/>
          </p:cNvSpPr>
          <p:nvPr>
            <p:ph/>
          </p:nvPr>
        </p:nvSpPr>
        <p:spPr>
          <a:xfrm>
            <a:off x="304560" y="1828800"/>
            <a:ext cx="8839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brake system capabi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percent operative brakes at initial termi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less than 85 percent operative brak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application capabi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lroad establishes max. MR working press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 BP pressure no greater than 15 psi less than air compressor governor loading press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2D382D03-33E1-453B-BCA6-6857322A8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 requirements brake systems</a:t>
            </a:r>
            <a:br>
              <a:rPr sz="4000"/>
            </a:br>
            <a:r>
              <a:rPr b="0" lang="en-US" sz="4000" spc="-1" strike="noStrike">
                <a:solidFill>
                  <a:srgbClr val="000000"/>
                </a:solidFill>
                <a:latin typeface="Times New Roman"/>
              </a:rPr>
              <a:t>New requirements</a:t>
            </a:r>
            <a:endParaRPr b="0" lang="en-US" sz="4000" spc="-1" strike="noStrike">
              <a:solidFill>
                <a:srgbClr val="000000"/>
              </a:solidFill>
              <a:latin typeface="Times New Roman"/>
            </a:endParaRPr>
          </a:p>
        </p:txBody>
      </p:sp>
      <p:sp>
        <p:nvSpPr>
          <p:cNvPr id="5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ton travel ranges as indicated on badge plate, sticker, decal or stencil.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equipment ordered on or after 8/1/02 or placed in service after 4/1/04 shall have brake system designed to facilitate inspection of PT or PT indicator from safe posi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ight and other non-passenger equipment brake systems shall meet at a minimum AAR-Standard S-469-47, “Performance Specification for Freight Brak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ir flow exceeds 60 CFM on trains qualified by AFM and pointer does not return within reasonable time, train shall stop at next available location and its brake system inspected for leak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5A136224-0A1C-466E-BA1B-D3379664F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requirements brake systems</a:t>
            </a:r>
            <a:br>
              <a:rPr sz="3600"/>
            </a:br>
            <a:r>
              <a:rPr b="0" lang="en-US" sz="3600" spc="-1" strike="noStrike">
                <a:solidFill>
                  <a:srgbClr val="000000"/>
                </a:solidFill>
                <a:latin typeface="Times New Roman"/>
              </a:rPr>
              <a:t>Unattended equipment – Standing trains</a:t>
            </a:r>
            <a:endParaRPr b="0" lang="en-US" sz="3600" spc="-1" strike="noStrike">
              <a:solidFill>
                <a:srgbClr val="000000"/>
              </a:solidFill>
              <a:latin typeface="Times New Roman"/>
            </a:endParaRPr>
          </a:p>
        </p:txBody>
      </p:sp>
      <p:sp>
        <p:nvSpPr>
          <p:cNvPr id="60" name="PlaceHolder 2"/>
          <p:cNvSpPr>
            <a:spLocks noGrp="1"/>
          </p:cNvSpPr>
          <p:nvPr>
            <p:ph/>
          </p:nvPr>
        </p:nvSpPr>
        <p:spPr>
          <a:xfrm>
            <a:off x="228600" y="1371600"/>
            <a:ext cx="86868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attended equipment shall be secured in accordance with the following requirement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fficient number of hand brakes shall be applied to hold the equipment. Railroads shall develop and implement a process or procedure to verify that applied hand brakes will sufficiently hold the equipment with the air brakes released.</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 for equipment connected to a source of compressed air (e.g., locomotive or ground air source), prior to leaving equipment unattended, the brake pipe shall be reduced to zero at a rate that is no less than a service rate reduction, and the brake pipe vented to atmosphere by leaving the angle cock in the open position on the first unit of the equipment left unattend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279B5154-88C5-42DE-A769-622D78202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requirements brake systems</a:t>
            </a:r>
            <a:br>
              <a:rPr sz="3200"/>
            </a:br>
            <a:r>
              <a:rPr b="0" lang="en-US" sz="3200" spc="-1" strike="noStrike">
                <a:solidFill>
                  <a:srgbClr val="000000"/>
                </a:solidFill>
                <a:latin typeface="Times New Roman"/>
              </a:rPr>
              <a:t> Unattended equipment – additional requirements </a:t>
            </a:r>
            <a:br>
              <a:rPr sz="3200"/>
            </a:b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y hand brakes applied to hold unattended equipment shall not be released until it is known that the air brake system is properly charg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47BCB259-93D1-4BD3-BEE7-7C5E17612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requirements brake systems</a:t>
            </a:r>
            <a:br>
              <a:rPr sz="3200"/>
            </a:br>
            <a:r>
              <a:rPr b="0" lang="en-US" sz="3200" spc="-1" strike="noStrike">
                <a:solidFill>
                  <a:srgbClr val="000000"/>
                </a:solidFill>
                <a:latin typeface="Times New Roman"/>
              </a:rPr>
              <a:t>Unattended locomotives</a:t>
            </a:r>
            <a:endParaRPr b="0" lang="en-US" sz="3200" spc="-1" strike="noStrike">
              <a:solidFill>
                <a:srgbClr val="000000"/>
              </a:solidFill>
              <a:latin typeface="Times New Roman"/>
            </a:endParaRPr>
          </a:p>
        </p:txBody>
      </p:sp>
      <p:sp>
        <p:nvSpPr>
          <p:cNvPr id="64" name="PlaceHolder 2"/>
          <p:cNvSpPr>
            <a:spLocks noGrp="1"/>
          </p:cNvSpPr>
          <p:nvPr>
            <p:ph/>
          </p:nvPr>
        </p:nvSpPr>
        <p:spPr>
          <a:xfrm>
            <a:off x="152280" y="1219320"/>
            <a:ext cx="876312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Except for distributed power units, the following requirements apply to unattended locomotive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hand brakes shall be fully applied on all locomotives in the lead consist of an unattended train.</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hand brakes shall be fully applied on all locomotives in an unattended locomotive consist outside of yard limits.</a:t>
            </a:r>
            <a:endParaRPr b="0" lang="en-US" sz="2400" spc="-1" strike="noStrike">
              <a:solidFill>
                <a:srgbClr val="000000"/>
              </a:solidFill>
              <a:latin typeface="Times New Roman"/>
            </a:endParaRPr>
          </a:p>
          <a:p>
            <a:pPr lvl="1" marL="639000" indent="-245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 minimum, the hand brake shall be fully applied on the lead locomotive in an unattended locomotive consist within yard lim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639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ilroads shall develop, adopt, and comply with procedures for securing any unattended locomotive required to have a hand brake applied as stated in the three bullets above when the locomotive is not equipped with an operative hand brak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3C0BBB5F-BCD1-4E32-9C4A-E6CE360E0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8763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requirements brake systems</a:t>
            </a:r>
            <a:br>
              <a:rPr sz="2800"/>
            </a:br>
            <a:r>
              <a:rPr b="0" lang="en-US" sz="2800" spc="-1" strike="noStrike">
                <a:solidFill>
                  <a:srgbClr val="000000"/>
                </a:solidFill>
                <a:latin typeface="Times New Roman"/>
              </a:rPr>
              <a:t> Unattended locomotives – additional requirements</a:t>
            </a:r>
            <a:endParaRPr b="0" lang="en-US" sz="2800" spc="-1" strike="noStrike">
              <a:solidFill>
                <a:srgbClr val="000000"/>
              </a:solidFill>
              <a:latin typeface="Times New Roman"/>
            </a:endParaRPr>
          </a:p>
        </p:txBody>
      </p:sp>
      <p:sp>
        <p:nvSpPr>
          <p:cNvPr id="66" name="PlaceHolder 2"/>
          <p:cNvSpPr>
            <a:spLocks noGrp="1"/>
          </p:cNvSpPr>
          <p:nvPr>
            <p:ph/>
          </p:nvPr>
        </p:nvSpPr>
        <p:spPr>
          <a:xfrm>
            <a:off x="152280" y="1371600"/>
            <a:ext cx="876312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railroad shall adopt and comply with a process, procedures and instructions to verify and/or addres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plied hand brakes will sufficiently hold an unattended locomotive consist. </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ttle position.</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of the generator field switch.</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of the independent brakes and reverser lever.</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of the isolation switch and automatic brake valve on all unattended locomotives.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cedures and instruction shall also take into account winter weather conditions as they relate to throttle position and reverser hand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2</a:t>
            </a:r>
          </a:p>
        </p:txBody>
      </p:sp>
      <p:sp>
        <p:nvSpPr>
          <p:cNvPr id="5" name="PlaceHolder 4"/>
          <p:cNvSpPr>
            <a:spLocks noGrp="1"/>
          </p:cNvSpPr>
          <p:nvPr>
            <p:ph type="sldNum" idx="3"/>
          </p:nvPr>
        </p:nvSpPr>
        <p:spPr/>
        <p:txBody>
          <a:bodyPr/>
          <a:p>
            <a:fld id="{C5CB4862-30CC-4BFC-B105-91CD0AF7D0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18:59:13Z</dcterms:created>
  <dc:creator>RCastigl</dc:creator>
  <dc:description/>
  <dc:language>en-US</dc:language>
  <cp:lastModifiedBy>RCastigl</cp:lastModifiedBy>
  <dcterms:modified xsi:type="dcterms:W3CDTF">2002-11-20T22:24:57Z</dcterms:modified>
  <cp:revision>38</cp:revision>
  <dc:subject/>
  <dc:title>Brake System Safety Standards for Freight</dc:title>
</cp:coreProperties>
</file>